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27.png" ContentType="image/png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7.png" ContentType="image/png"/>
  <Override PartName="/ppt/media/image1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3195000" y="65293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B3D6-CD46-4B98-A277-6BF137BB2F9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6407280"/>
            <a:ext cx="9153360" cy="1220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34880" y="6510240"/>
            <a:ext cx="1749600" cy="290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144400" y="6548400"/>
            <a:ext cx="380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1560"/>
            <a:ext cx="91425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0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65080" y="1836720"/>
            <a:ext cx="74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000000"/>
                </a:solidFill>
                <a:latin typeface="Verdana"/>
              </a:rPr>
              <a:t>General concept of 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000000"/>
                </a:solidFill>
                <a:latin typeface="Verdana"/>
              </a:rPr>
              <a:t>VoIP 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55920" y="5599080"/>
            <a:ext cx="2430360" cy="405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25926" t="29468" r="23988" b="30472"/>
          <a:stretch/>
        </p:blipFill>
        <p:spPr>
          <a:xfrm>
            <a:off x="3141720" y="4503600"/>
            <a:ext cx="2863800" cy="787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916360" y="4508640"/>
            <a:ext cx="3314520" cy="82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1476360" y="838080"/>
            <a:ext cx="453960" cy="5410080"/>
            <a:chOff x="1476360" y="838080"/>
            <a:chExt cx="453960" cy="5410080"/>
          </a:xfrm>
        </p:grpSpPr>
        <p:sp>
          <p:nvSpPr>
            <p:cNvPr id="511" name=""/>
            <p:cNvSpPr/>
            <p:nvPr/>
          </p:nvSpPr>
          <p:spPr>
            <a:xfrm>
              <a:off x="1476360" y="838080"/>
              <a:ext cx="453960" cy="5410080"/>
            </a:xfrm>
            <a:prstGeom prst="rect">
              <a:avLst/>
            </a:prstGeom>
            <a:gradFill rotWithShape="0">
              <a:gsLst>
                <a:gs pos="0">
                  <a:srgbClr val="0a0f19"/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6200000">
              <a:off x="401400" y="2961360"/>
              <a:ext cx="25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H.323 endpoint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044800" y="1066680"/>
            <a:ext cx="5240160" cy="180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260080" y="762120"/>
            <a:ext cx="6822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set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2044800" y="1980720"/>
            <a:ext cx="5240160" cy="1800"/>
          </a:xfrm>
          <a:prstGeom prst="line">
            <a:avLst/>
          </a:prstGeom>
          <a:ln w="28440">
            <a:solidFill>
              <a:srgbClr val="0066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2044800" y="1676520"/>
            <a:ext cx="5240160" cy="1440"/>
          </a:xfrm>
          <a:prstGeom prst="line">
            <a:avLst/>
          </a:prstGeom>
          <a:ln w="28440">
            <a:solidFill>
              <a:srgbClr val="0066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2006640" y="6049800"/>
            <a:ext cx="5262480" cy="648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889240" y="1371600"/>
            <a:ext cx="8924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alert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5886720" y="1676520"/>
            <a:ext cx="891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conne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2302200" y="5224320"/>
            <a:ext cx="1213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end sess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5883480" y="5478480"/>
            <a:ext cx="1213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end sess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2297160" y="5770440"/>
            <a:ext cx="1742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Release comple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>
            <a:off x="4248000" y="4813200"/>
            <a:ext cx="698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Audio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044800" y="1371600"/>
            <a:ext cx="5240160" cy="1440"/>
          </a:xfrm>
          <a:prstGeom prst="line">
            <a:avLst/>
          </a:prstGeom>
          <a:ln w="28440">
            <a:solidFill>
              <a:srgbClr val="0066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>
            <a:off x="5906520" y="1066680"/>
            <a:ext cx="1183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proceed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>
            <a:off x="7812000" y="5575320"/>
            <a:ext cx="1236600" cy="8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.225 = </a:t>
            </a:r>
            <a:r>
              <a:rPr b="1" i="1" lang="en-US" sz="1200" spc="-1" strike="noStrike">
                <a:solidFill>
                  <a:srgbClr val="0066ff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.245 = </a:t>
            </a:r>
            <a:r>
              <a:rPr b="1" i="1" lang="en-US" sz="1200" spc="-1" strike="noStrike">
                <a:solidFill>
                  <a:srgbClr val="0099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TP =</a:t>
            </a:r>
            <a:r>
              <a:rPr b="1" i="1" lang="en-US" sz="1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2352240" y="1981080"/>
            <a:ext cx="29865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Terminal Capability Set reque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2370600" y="2286000"/>
            <a:ext cx="29725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Master Slave Detection reque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2016000" y="2895480"/>
            <a:ext cx="5245200" cy="180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2033640" y="3179520"/>
            <a:ext cx="5227560" cy="2052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2033640" y="3459240"/>
            <a:ext cx="5227560" cy="144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5193360" y="3179880"/>
            <a:ext cx="1800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MSD ACK+TCS 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2073240" y="3720960"/>
            <a:ext cx="5187960" cy="144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5193360" y="3441600"/>
            <a:ext cx="1800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MSD ACK+TCS 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2354040" y="3700440"/>
            <a:ext cx="28494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Open Logical Channel reque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2041560" y="4794120"/>
            <a:ext cx="5219640" cy="1296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7286760" y="838080"/>
            <a:ext cx="453960" cy="5410080"/>
            <a:chOff x="7286760" y="838080"/>
            <a:chExt cx="453960" cy="5410080"/>
          </a:xfrm>
        </p:grpSpPr>
        <p:sp>
          <p:nvSpPr>
            <p:cNvPr id="538" name=""/>
            <p:cNvSpPr/>
            <p:nvPr/>
          </p:nvSpPr>
          <p:spPr>
            <a:xfrm>
              <a:off x="7286760" y="838080"/>
              <a:ext cx="453960" cy="5410080"/>
            </a:xfrm>
            <a:prstGeom prst="rect">
              <a:avLst/>
            </a:prstGeom>
            <a:gradFill rotWithShape="0">
              <a:gsLst>
                <a:gs pos="0">
                  <a:srgbClr val="0a0f19"/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16200000">
              <a:off x="6211800" y="2961360"/>
              <a:ext cx="25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H.323 endpoint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4001760" y="2590920"/>
            <a:ext cx="29865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Terminal Capability Set reque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3997800" y="2887560"/>
            <a:ext cx="29725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Master Slave Detection reque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"/>
          <p:cNvSpPr/>
          <p:nvPr/>
        </p:nvSpPr>
        <p:spPr>
          <a:xfrm>
            <a:off x="4147560" y="3962520"/>
            <a:ext cx="2853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Open Logical Channel reque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"/>
          <p:cNvSpPr/>
          <p:nvPr/>
        </p:nvSpPr>
        <p:spPr>
          <a:xfrm>
            <a:off x="2075040" y="4268880"/>
            <a:ext cx="5186160" cy="792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"/>
          <p:cNvSpPr/>
          <p:nvPr/>
        </p:nvSpPr>
        <p:spPr>
          <a:xfrm>
            <a:off x="4123800" y="4495680"/>
            <a:ext cx="25185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Open Logical Channel 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"/>
          <p:cNvSpPr/>
          <p:nvPr/>
        </p:nvSpPr>
        <p:spPr>
          <a:xfrm>
            <a:off x="2317320" y="4246560"/>
            <a:ext cx="25185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Open Logical Channel 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"/>
          <p:cNvSpPr/>
          <p:nvPr/>
        </p:nvSpPr>
        <p:spPr>
          <a:xfrm>
            <a:off x="2082960" y="5081760"/>
            <a:ext cx="5178240" cy="188640"/>
          </a:xfrm>
          <a:prstGeom prst="leftRightArrow">
            <a:avLst>
              <a:gd name="adj1" fmla="val 61111"/>
              <a:gd name="adj2" fmla="val 15275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"/>
          <p:cNvSpPr/>
          <p:nvPr/>
        </p:nvSpPr>
        <p:spPr>
          <a:xfrm>
            <a:off x="2079720" y="4006800"/>
            <a:ext cx="5176800" cy="64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2003400" y="4554000"/>
            <a:ext cx="5264280" cy="176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028960" y="2293560"/>
            <a:ext cx="5263920" cy="176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2028960" y="2577600"/>
            <a:ext cx="5263920" cy="176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016000" y="5498640"/>
            <a:ext cx="5264280" cy="176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"/>
          <p:cNvSpPr/>
          <p:nvPr/>
        </p:nvSpPr>
        <p:spPr>
          <a:xfrm>
            <a:off x="2054160" y="5783400"/>
            <a:ext cx="5186520" cy="792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"/>
          <p:cNvSpPr/>
          <p:nvPr/>
        </p:nvSpPr>
        <p:spPr>
          <a:xfrm>
            <a:off x="171360" y="98280"/>
            <a:ext cx="199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H.323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"/>
          <p:cNvSpPr/>
          <p:nvPr/>
        </p:nvSpPr>
        <p:spPr>
          <a:xfrm>
            <a:off x="108000" y="765000"/>
            <a:ext cx="172872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rmal Star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1476360" y="912960"/>
            <a:ext cx="453960" cy="5409720"/>
            <a:chOff x="1476360" y="912960"/>
            <a:chExt cx="453960" cy="5409720"/>
          </a:xfrm>
        </p:grpSpPr>
        <p:sp>
          <p:nvSpPr>
            <p:cNvPr id="556" name=""/>
            <p:cNvSpPr/>
            <p:nvPr/>
          </p:nvSpPr>
          <p:spPr>
            <a:xfrm>
              <a:off x="1476360" y="912960"/>
              <a:ext cx="453960" cy="5409720"/>
            </a:xfrm>
            <a:prstGeom prst="rect">
              <a:avLst/>
            </a:prstGeom>
            <a:gradFill rotWithShape="0">
              <a:gsLst>
                <a:gs pos="0">
                  <a:srgbClr val="0a0f19"/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16200000">
              <a:off x="401400" y="3036240"/>
              <a:ext cx="25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H.323 endpoint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2044800" y="1141560"/>
            <a:ext cx="5240160" cy="144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9" name=""/>
          <p:cNvSpPr/>
          <p:nvPr/>
        </p:nvSpPr>
        <p:spPr>
          <a:xfrm>
            <a:off x="2260080" y="836640"/>
            <a:ext cx="6822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set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2041560" y="4308480"/>
            <a:ext cx="5240160" cy="1440"/>
          </a:xfrm>
          <a:prstGeom prst="line">
            <a:avLst/>
          </a:prstGeom>
          <a:ln w="28440">
            <a:solidFill>
              <a:srgbClr val="0066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046240" y="2360160"/>
            <a:ext cx="5240520" cy="1800"/>
          </a:xfrm>
          <a:prstGeom prst="line">
            <a:avLst/>
          </a:prstGeom>
          <a:ln w="28440">
            <a:solidFill>
              <a:srgbClr val="0066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006640" y="6124320"/>
            <a:ext cx="5262480" cy="612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3" name=""/>
          <p:cNvSpPr/>
          <p:nvPr/>
        </p:nvSpPr>
        <p:spPr>
          <a:xfrm>
            <a:off x="5891040" y="2055960"/>
            <a:ext cx="8924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alert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"/>
          <p:cNvSpPr/>
          <p:nvPr/>
        </p:nvSpPr>
        <p:spPr>
          <a:xfrm>
            <a:off x="5883840" y="4003560"/>
            <a:ext cx="891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conne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"/>
          <p:cNvSpPr/>
          <p:nvPr/>
        </p:nvSpPr>
        <p:spPr>
          <a:xfrm>
            <a:off x="2302200" y="5299200"/>
            <a:ext cx="1213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end sess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"/>
          <p:cNvSpPr/>
          <p:nvPr/>
        </p:nvSpPr>
        <p:spPr>
          <a:xfrm>
            <a:off x="5883480" y="5553000"/>
            <a:ext cx="1213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end sess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"/>
          <p:cNvSpPr/>
          <p:nvPr/>
        </p:nvSpPr>
        <p:spPr>
          <a:xfrm>
            <a:off x="2297160" y="5845320"/>
            <a:ext cx="1742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Release comple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248000" y="4888080"/>
            <a:ext cx="698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Audio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044800" y="1445760"/>
            <a:ext cx="5240160" cy="1800"/>
          </a:xfrm>
          <a:prstGeom prst="line">
            <a:avLst/>
          </a:prstGeom>
          <a:ln w="28440">
            <a:solidFill>
              <a:srgbClr val="0066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0" name=""/>
          <p:cNvSpPr/>
          <p:nvPr/>
        </p:nvSpPr>
        <p:spPr>
          <a:xfrm>
            <a:off x="5906520" y="1141560"/>
            <a:ext cx="1183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proceed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1" name=""/>
          <p:cNvSpPr/>
          <p:nvPr/>
        </p:nvSpPr>
        <p:spPr>
          <a:xfrm>
            <a:off x="2352240" y="1446120"/>
            <a:ext cx="29865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Terminal Capability Set reque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2370600" y="1751040"/>
            <a:ext cx="29725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Master Slave Detection reque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"/>
          <p:cNvSpPr/>
          <p:nvPr/>
        </p:nvSpPr>
        <p:spPr>
          <a:xfrm>
            <a:off x="2016000" y="2644920"/>
            <a:ext cx="5245200" cy="144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2033640" y="2928960"/>
            <a:ext cx="5227560" cy="1260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"/>
          <p:cNvSpPr/>
          <p:nvPr/>
        </p:nvSpPr>
        <p:spPr>
          <a:xfrm>
            <a:off x="2033640" y="3208320"/>
            <a:ext cx="5227560" cy="144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6" name=""/>
          <p:cNvSpPr/>
          <p:nvPr/>
        </p:nvSpPr>
        <p:spPr>
          <a:xfrm>
            <a:off x="5193360" y="2928960"/>
            <a:ext cx="1800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MSD ACK+TCS 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073240" y="3470040"/>
            <a:ext cx="5187960" cy="140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"/>
          <p:cNvSpPr/>
          <p:nvPr/>
        </p:nvSpPr>
        <p:spPr>
          <a:xfrm>
            <a:off x="5193360" y="3191040"/>
            <a:ext cx="1800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MSD ACK+TCS 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"/>
          <p:cNvSpPr/>
          <p:nvPr/>
        </p:nvSpPr>
        <p:spPr>
          <a:xfrm>
            <a:off x="2354040" y="3449520"/>
            <a:ext cx="28494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Open Logical Channel reque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0" name=""/>
          <p:cNvSpPr/>
          <p:nvPr/>
        </p:nvSpPr>
        <p:spPr>
          <a:xfrm>
            <a:off x="2041560" y="4869000"/>
            <a:ext cx="5219640" cy="1260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7286760" y="912960"/>
            <a:ext cx="453960" cy="5409720"/>
            <a:chOff x="7286760" y="912960"/>
            <a:chExt cx="453960" cy="5409720"/>
          </a:xfrm>
        </p:grpSpPr>
        <p:sp>
          <p:nvSpPr>
            <p:cNvPr id="582" name=""/>
            <p:cNvSpPr/>
            <p:nvPr/>
          </p:nvSpPr>
          <p:spPr>
            <a:xfrm>
              <a:off x="7286760" y="912960"/>
              <a:ext cx="453960" cy="5409720"/>
            </a:xfrm>
            <a:prstGeom prst="rect">
              <a:avLst/>
            </a:prstGeom>
            <a:gradFill rotWithShape="0">
              <a:gsLst>
                <a:gs pos="0">
                  <a:srgbClr val="0a0f19"/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6200000">
              <a:off x="6211800" y="3036240"/>
              <a:ext cx="25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H.323 endpoint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4001760" y="2340000"/>
            <a:ext cx="29865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Terminal Capability Set reque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5" name=""/>
          <p:cNvSpPr/>
          <p:nvPr/>
        </p:nvSpPr>
        <p:spPr>
          <a:xfrm>
            <a:off x="3997800" y="2637000"/>
            <a:ext cx="29725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Master Slave Detection reque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6" name=""/>
          <p:cNvSpPr/>
          <p:nvPr/>
        </p:nvSpPr>
        <p:spPr>
          <a:xfrm>
            <a:off x="4147560" y="3711600"/>
            <a:ext cx="2853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Open Logical Channel reque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7" name=""/>
          <p:cNvSpPr/>
          <p:nvPr/>
        </p:nvSpPr>
        <p:spPr>
          <a:xfrm>
            <a:off x="2075040" y="4017960"/>
            <a:ext cx="5186160" cy="792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8" name=""/>
          <p:cNvSpPr/>
          <p:nvPr/>
        </p:nvSpPr>
        <p:spPr>
          <a:xfrm>
            <a:off x="4123800" y="4570560"/>
            <a:ext cx="25185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Open Logical Channel 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"/>
          <p:cNvSpPr/>
          <p:nvPr/>
        </p:nvSpPr>
        <p:spPr>
          <a:xfrm>
            <a:off x="2317320" y="4321080"/>
            <a:ext cx="25185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Open Logical Channel 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0" name=""/>
          <p:cNvSpPr/>
          <p:nvPr/>
        </p:nvSpPr>
        <p:spPr>
          <a:xfrm>
            <a:off x="2082960" y="5156280"/>
            <a:ext cx="5178240" cy="189000"/>
          </a:xfrm>
          <a:prstGeom prst="leftRightArrow">
            <a:avLst>
              <a:gd name="adj1" fmla="val 61111"/>
              <a:gd name="adj2" fmla="val 15246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"/>
          <p:cNvSpPr/>
          <p:nvPr/>
        </p:nvSpPr>
        <p:spPr>
          <a:xfrm>
            <a:off x="2079720" y="3755880"/>
            <a:ext cx="5176800" cy="64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003400" y="4629240"/>
            <a:ext cx="5264280" cy="1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028960" y="1758960"/>
            <a:ext cx="5263920" cy="1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2028960" y="2042640"/>
            <a:ext cx="5263920" cy="176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2016000" y="5573880"/>
            <a:ext cx="5264280" cy="1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"/>
          <p:cNvSpPr/>
          <p:nvPr/>
        </p:nvSpPr>
        <p:spPr>
          <a:xfrm>
            <a:off x="2054160" y="5857920"/>
            <a:ext cx="5186520" cy="792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"/>
          <p:cNvSpPr/>
          <p:nvPr/>
        </p:nvSpPr>
        <p:spPr>
          <a:xfrm>
            <a:off x="206280" y="98280"/>
            <a:ext cx="199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H.323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"/>
          <p:cNvSpPr/>
          <p:nvPr/>
        </p:nvSpPr>
        <p:spPr>
          <a:xfrm>
            <a:off x="7812000" y="5575320"/>
            <a:ext cx="1236600" cy="8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.225 = </a:t>
            </a:r>
            <a:r>
              <a:rPr b="1" i="1" lang="en-US" sz="1200" spc="-1" strike="noStrike">
                <a:solidFill>
                  <a:srgbClr val="0066ff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.245 = </a:t>
            </a:r>
            <a:r>
              <a:rPr b="1" i="1" lang="en-US" sz="1200" spc="-1" strike="noStrike">
                <a:solidFill>
                  <a:srgbClr val="0099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TP =</a:t>
            </a:r>
            <a:r>
              <a:rPr b="1" i="1" lang="en-US" sz="1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"/>
          <p:cNvSpPr/>
          <p:nvPr/>
        </p:nvSpPr>
        <p:spPr>
          <a:xfrm>
            <a:off x="108000" y="765000"/>
            <a:ext cx="172872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rly H.245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380880" y="609480"/>
            <a:ext cx="84582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tup request between endpoints, includes media and codec(H.245 message).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287280" indent="-287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fter proceeding message, open audio channel.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287280" indent="-287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ose audio channel (either endpoint)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287280" indent="-287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sconnec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287280" indent="-287280">
              <a:lnSpc>
                <a:spcPct val="70000"/>
              </a:lnSpc>
              <a:tabLst>
                <a:tab algn="l" pos="0"/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789200" y="2617920"/>
            <a:ext cx="654840" cy="2971800"/>
            <a:chOff x="1789200" y="2617920"/>
            <a:chExt cx="654840" cy="2971800"/>
          </a:xfrm>
        </p:grpSpPr>
        <p:sp>
          <p:nvSpPr>
            <p:cNvPr id="602" name=""/>
            <p:cNvSpPr/>
            <p:nvPr/>
          </p:nvSpPr>
          <p:spPr>
            <a:xfrm>
              <a:off x="1789200" y="2617920"/>
              <a:ext cx="577440" cy="2971800"/>
            </a:xfrm>
            <a:prstGeom prst="rect">
              <a:avLst/>
            </a:prstGeom>
            <a:gradFill rotWithShape="0">
              <a:gsLst>
                <a:gs pos="0">
                  <a:srgbClr val="0a0f19"/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6200000">
              <a:off x="1425240" y="3558960"/>
              <a:ext cx="1395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H.323 endpoint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2492280" y="2922480"/>
            <a:ext cx="5240520" cy="180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"/>
          <p:cNvSpPr/>
          <p:nvPr/>
        </p:nvSpPr>
        <p:spPr>
          <a:xfrm>
            <a:off x="2838600" y="2617920"/>
            <a:ext cx="2309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Setup(media and codec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492280" y="4349880"/>
            <a:ext cx="5240520" cy="1440"/>
          </a:xfrm>
          <a:prstGeom prst="line">
            <a:avLst/>
          </a:prstGeom>
          <a:ln w="28440">
            <a:solidFill>
              <a:srgbClr val="0066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492280" y="4044960"/>
            <a:ext cx="5240520" cy="1440"/>
          </a:xfrm>
          <a:prstGeom prst="line">
            <a:avLst/>
          </a:prstGeom>
          <a:ln w="28440">
            <a:solidFill>
              <a:srgbClr val="0066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2454120" y="5238720"/>
            <a:ext cx="5262840" cy="648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"/>
          <p:cNvSpPr/>
          <p:nvPr/>
        </p:nvSpPr>
        <p:spPr>
          <a:xfrm>
            <a:off x="6494040" y="3740040"/>
            <a:ext cx="8924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alert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0" name=""/>
          <p:cNvSpPr/>
          <p:nvPr/>
        </p:nvSpPr>
        <p:spPr>
          <a:xfrm>
            <a:off x="6491880" y="4044960"/>
            <a:ext cx="891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conne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1" name=""/>
          <p:cNvSpPr/>
          <p:nvPr/>
        </p:nvSpPr>
        <p:spPr>
          <a:xfrm>
            <a:off x="2749680" y="4413240"/>
            <a:ext cx="1213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end sess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2" name=""/>
          <p:cNvSpPr/>
          <p:nvPr/>
        </p:nvSpPr>
        <p:spPr>
          <a:xfrm>
            <a:off x="6170760" y="4667400"/>
            <a:ext cx="1213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end sess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3" name=""/>
          <p:cNvSpPr/>
          <p:nvPr/>
        </p:nvSpPr>
        <p:spPr>
          <a:xfrm>
            <a:off x="2744640" y="4959360"/>
            <a:ext cx="1742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Release comple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303720"/>
            <a:ext cx="698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Audio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492280" y="3227400"/>
            <a:ext cx="5240520" cy="1440"/>
          </a:xfrm>
          <a:prstGeom prst="line">
            <a:avLst/>
          </a:prstGeom>
          <a:ln w="28440">
            <a:solidFill>
              <a:srgbClr val="0066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6" name=""/>
          <p:cNvSpPr/>
          <p:nvPr/>
        </p:nvSpPr>
        <p:spPr>
          <a:xfrm>
            <a:off x="4451400" y="2922480"/>
            <a:ext cx="28018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proceeding(media and codec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7734240" y="2617920"/>
            <a:ext cx="655560" cy="2971800"/>
            <a:chOff x="7734240" y="2617920"/>
            <a:chExt cx="655560" cy="2971800"/>
          </a:xfrm>
        </p:grpSpPr>
        <p:sp>
          <p:nvSpPr>
            <p:cNvPr id="618" name=""/>
            <p:cNvSpPr/>
            <p:nvPr/>
          </p:nvSpPr>
          <p:spPr>
            <a:xfrm>
              <a:off x="7734240" y="2617920"/>
              <a:ext cx="613440" cy="2971800"/>
            </a:xfrm>
            <a:prstGeom prst="rect">
              <a:avLst/>
            </a:prstGeom>
            <a:gradFill rotWithShape="0">
              <a:gsLst>
                <a:gs pos="0">
                  <a:srgbClr val="0a0f19"/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7371000" y="3560760"/>
              <a:ext cx="139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H.323 endpoint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2530440" y="3571920"/>
            <a:ext cx="5178600" cy="189000"/>
          </a:xfrm>
          <a:prstGeom prst="leftRightArrow">
            <a:avLst>
              <a:gd name="adj1" fmla="val 61111"/>
              <a:gd name="adj2" fmla="val 15247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1" name=""/>
          <p:cNvSpPr/>
          <p:nvPr/>
        </p:nvSpPr>
        <p:spPr>
          <a:xfrm>
            <a:off x="2463840" y="4705200"/>
            <a:ext cx="5264280" cy="7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2" name=""/>
          <p:cNvSpPr/>
          <p:nvPr/>
        </p:nvSpPr>
        <p:spPr>
          <a:xfrm>
            <a:off x="2502000" y="4971960"/>
            <a:ext cx="5186160" cy="792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3" name=""/>
          <p:cNvSpPr/>
          <p:nvPr/>
        </p:nvSpPr>
        <p:spPr>
          <a:xfrm>
            <a:off x="206280" y="98280"/>
            <a:ext cx="199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H.323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4" name=""/>
          <p:cNvSpPr/>
          <p:nvPr/>
        </p:nvSpPr>
        <p:spPr>
          <a:xfrm>
            <a:off x="7812000" y="5575320"/>
            <a:ext cx="1236600" cy="8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.225 = </a:t>
            </a:r>
            <a:r>
              <a:rPr b="1" i="1" lang="en-US" sz="1200" spc="-1" strike="noStrike">
                <a:solidFill>
                  <a:srgbClr val="0066ff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.245 = </a:t>
            </a:r>
            <a:r>
              <a:rPr b="1" i="1" lang="en-US" sz="1200" spc="-1" strike="noStrike">
                <a:solidFill>
                  <a:srgbClr val="0099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TP =</a:t>
            </a:r>
            <a:r>
              <a:rPr b="1" i="1" lang="en-US" sz="1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5" name=""/>
          <p:cNvSpPr/>
          <p:nvPr/>
        </p:nvSpPr>
        <p:spPr>
          <a:xfrm>
            <a:off x="250920" y="2787480"/>
            <a:ext cx="172872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 Star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6114960" y="1295280"/>
            <a:ext cx="228600" cy="4267440"/>
          </a:xfrm>
          <a:prstGeom prst="rect">
            <a:avLst/>
          </a:prstGeom>
          <a:gradFill rotWithShape="0">
            <a:gsLst>
              <a:gs pos="0">
                <a:srgbClr val="0a0f1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7" name=""/>
          <p:cNvSpPr/>
          <p:nvPr/>
        </p:nvSpPr>
        <p:spPr>
          <a:xfrm rot="16200000">
            <a:off x="5110920" y="2676960"/>
            <a:ext cx="22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H.323 endpoi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8" name=""/>
          <p:cNvSpPr/>
          <p:nvPr/>
        </p:nvSpPr>
        <p:spPr>
          <a:xfrm>
            <a:off x="8477280" y="1143000"/>
            <a:ext cx="236520" cy="4343400"/>
          </a:xfrm>
          <a:prstGeom prst="rect">
            <a:avLst/>
          </a:prstGeom>
          <a:gradFill rotWithShape="0">
            <a:gsLst>
              <a:gs pos="0">
                <a:srgbClr val="101828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9" name=""/>
          <p:cNvSpPr/>
          <p:nvPr/>
        </p:nvSpPr>
        <p:spPr>
          <a:xfrm rot="16200000">
            <a:off x="7494480" y="2635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H.323 endpoi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0" name=""/>
          <p:cNvSpPr/>
          <p:nvPr/>
        </p:nvSpPr>
        <p:spPr>
          <a:xfrm>
            <a:off x="7334280" y="1066680"/>
            <a:ext cx="380880" cy="4496040"/>
          </a:xfrm>
          <a:prstGeom prst="rect">
            <a:avLst/>
          </a:prstGeom>
          <a:gradFill rotWithShape="0">
            <a:gsLst>
              <a:gs pos="0">
                <a:srgbClr val="752f46"/>
              </a:gs>
              <a:gs pos="100000">
                <a:srgbClr val="ff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1" name=""/>
          <p:cNvSpPr/>
          <p:nvPr/>
        </p:nvSpPr>
        <p:spPr>
          <a:xfrm rot="16200000">
            <a:off x="6525720" y="2981160"/>
            <a:ext cx="19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atekeep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2" name=""/>
          <p:cNvSpPr/>
          <p:nvPr/>
        </p:nvSpPr>
        <p:spPr>
          <a:xfrm>
            <a:off x="6419880" y="2108160"/>
            <a:ext cx="2057400" cy="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3" name=""/>
          <p:cNvSpPr/>
          <p:nvPr/>
        </p:nvSpPr>
        <p:spPr>
          <a:xfrm>
            <a:off x="6523920" y="1803240"/>
            <a:ext cx="6822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set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4" name=""/>
          <p:cNvSpPr/>
          <p:nvPr/>
        </p:nvSpPr>
        <p:spPr>
          <a:xfrm>
            <a:off x="6343560" y="157464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5" name=""/>
          <p:cNvSpPr/>
          <p:nvPr/>
        </p:nvSpPr>
        <p:spPr>
          <a:xfrm>
            <a:off x="6580800" y="1295280"/>
            <a:ext cx="5634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6" name=""/>
          <p:cNvSpPr/>
          <p:nvPr/>
        </p:nvSpPr>
        <p:spPr>
          <a:xfrm>
            <a:off x="6597720" y="1554120"/>
            <a:ext cx="5158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7" name=""/>
          <p:cNvSpPr/>
          <p:nvPr/>
        </p:nvSpPr>
        <p:spPr>
          <a:xfrm>
            <a:off x="6343560" y="180324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8" name=""/>
          <p:cNvSpPr/>
          <p:nvPr/>
        </p:nvSpPr>
        <p:spPr>
          <a:xfrm>
            <a:off x="7715160" y="256536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9" name=""/>
          <p:cNvSpPr/>
          <p:nvPr/>
        </p:nvSpPr>
        <p:spPr>
          <a:xfrm>
            <a:off x="7876440" y="2316240"/>
            <a:ext cx="5634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0" name=""/>
          <p:cNvSpPr/>
          <p:nvPr/>
        </p:nvSpPr>
        <p:spPr>
          <a:xfrm>
            <a:off x="7893000" y="2590920"/>
            <a:ext cx="5158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1" name=""/>
          <p:cNvSpPr/>
          <p:nvPr/>
        </p:nvSpPr>
        <p:spPr>
          <a:xfrm>
            <a:off x="7715160" y="28702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2" name=""/>
          <p:cNvSpPr/>
          <p:nvPr/>
        </p:nvSpPr>
        <p:spPr>
          <a:xfrm>
            <a:off x="6419880" y="3479760"/>
            <a:ext cx="2057400" cy="0"/>
          </a:xfrm>
          <a:prstGeom prst="line">
            <a:avLst/>
          </a:prstGeom>
          <a:ln w="28440">
            <a:solidFill>
              <a:srgbClr val="0066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3" name=""/>
          <p:cNvSpPr/>
          <p:nvPr/>
        </p:nvSpPr>
        <p:spPr>
          <a:xfrm>
            <a:off x="6419880" y="3137040"/>
            <a:ext cx="2057400" cy="0"/>
          </a:xfrm>
          <a:prstGeom prst="line">
            <a:avLst/>
          </a:prstGeom>
          <a:ln w="28440">
            <a:solidFill>
              <a:srgbClr val="0066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4" name=""/>
          <p:cNvSpPr/>
          <p:nvPr/>
        </p:nvSpPr>
        <p:spPr>
          <a:xfrm>
            <a:off x="6419880" y="4043520"/>
            <a:ext cx="20574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5" name=""/>
          <p:cNvSpPr/>
          <p:nvPr/>
        </p:nvSpPr>
        <p:spPr>
          <a:xfrm>
            <a:off x="6419880" y="4272120"/>
            <a:ext cx="2057400" cy="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"/>
          <p:cNvSpPr/>
          <p:nvPr/>
        </p:nvSpPr>
        <p:spPr>
          <a:xfrm>
            <a:off x="6419880" y="4576680"/>
            <a:ext cx="2057400" cy="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"/>
          <p:cNvSpPr/>
          <p:nvPr/>
        </p:nvSpPr>
        <p:spPr>
          <a:xfrm>
            <a:off x="6530760" y="2849400"/>
            <a:ext cx="8924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alert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"/>
          <p:cNvSpPr/>
          <p:nvPr/>
        </p:nvSpPr>
        <p:spPr>
          <a:xfrm>
            <a:off x="6518520" y="3200400"/>
            <a:ext cx="891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conne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"/>
          <p:cNvSpPr/>
          <p:nvPr/>
        </p:nvSpPr>
        <p:spPr>
          <a:xfrm>
            <a:off x="6724800" y="3751200"/>
            <a:ext cx="1213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end sess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"/>
          <p:cNvSpPr/>
          <p:nvPr/>
        </p:nvSpPr>
        <p:spPr>
          <a:xfrm>
            <a:off x="6740640" y="4005360"/>
            <a:ext cx="1213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Verdana"/>
              </a:rPr>
              <a:t>end sess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"/>
          <p:cNvSpPr/>
          <p:nvPr/>
        </p:nvSpPr>
        <p:spPr>
          <a:xfrm>
            <a:off x="6593040" y="4297320"/>
            <a:ext cx="1742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Verdana"/>
              </a:rPr>
              <a:t>Release comple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"/>
          <p:cNvSpPr/>
          <p:nvPr/>
        </p:nvSpPr>
        <p:spPr>
          <a:xfrm>
            <a:off x="380880" y="609480"/>
            <a:ext cx="502920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point gets GK permission (ARQ/ACF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7280" indent="-287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7280" indent="-287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 request for Fast start to GK with destination &amp; media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7280" indent="-287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7280" indent="-287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request between endpoints, includes media and codec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7280" indent="-287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7280" indent="-287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messages (alerting, connect) then open audio channel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7280" indent="-287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7280" indent="-287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audio channel (either endpoin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7280" indent="-287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7280" indent="-287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nnect, return to idle advise to GK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7280" indent="-287280">
              <a:lnSpc>
                <a:spcPct val="70000"/>
              </a:lnSpc>
              <a:tabLst>
                <a:tab algn="l" pos="0"/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"/>
          <p:cNvSpPr/>
          <p:nvPr/>
        </p:nvSpPr>
        <p:spPr>
          <a:xfrm>
            <a:off x="6419880" y="3784680"/>
            <a:ext cx="20574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"/>
          <p:cNvSpPr/>
          <p:nvPr/>
        </p:nvSpPr>
        <p:spPr>
          <a:xfrm>
            <a:off x="6584760" y="3468600"/>
            <a:ext cx="698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Audio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5" name=""/>
          <p:cNvSpPr/>
          <p:nvPr/>
        </p:nvSpPr>
        <p:spPr>
          <a:xfrm>
            <a:off x="6343560" y="49276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6" name=""/>
          <p:cNvSpPr/>
          <p:nvPr/>
        </p:nvSpPr>
        <p:spPr>
          <a:xfrm>
            <a:off x="6581160" y="4648320"/>
            <a:ext cx="5724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RQ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7" name=""/>
          <p:cNvSpPr/>
          <p:nvPr/>
        </p:nvSpPr>
        <p:spPr>
          <a:xfrm>
            <a:off x="6597720" y="4906800"/>
            <a:ext cx="5252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C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8" name=""/>
          <p:cNvSpPr/>
          <p:nvPr/>
        </p:nvSpPr>
        <p:spPr>
          <a:xfrm>
            <a:off x="6369120" y="5156280"/>
            <a:ext cx="965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9" name=""/>
          <p:cNvSpPr/>
          <p:nvPr/>
        </p:nvSpPr>
        <p:spPr>
          <a:xfrm>
            <a:off x="7715160" y="4871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0" name=""/>
          <p:cNvSpPr/>
          <p:nvPr/>
        </p:nvSpPr>
        <p:spPr>
          <a:xfrm>
            <a:off x="7876440" y="4622760"/>
            <a:ext cx="5724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RQ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1" name=""/>
          <p:cNvSpPr/>
          <p:nvPr/>
        </p:nvSpPr>
        <p:spPr>
          <a:xfrm>
            <a:off x="7893000" y="4897440"/>
            <a:ext cx="5252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C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2" name=""/>
          <p:cNvSpPr/>
          <p:nvPr/>
        </p:nvSpPr>
        <p:spPr>
          <a:xfrm>
            <a:off x="7715160" y="5176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3" name=""/>
          <p:cNvSpPr/>
          <p:nvPr/>
        </p:nvSpPr>
        <p:spPr>
          <a:xfrm>
            <a:off x="7585200" y="5587920"/>
            <a:ext cx="1523880" cy="8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AS =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.225 = </a:t>
            </a:r>
            <a:r>
              <a:rPr b="1" i="1" lang="en-US" sz="1200" spc="-1" strike="noStrike">
                <a:solidFill>
                  <a:srgbClr val="0066ff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.245 = </a:t>
            </a:r>
            <a:r>
              <a:rPr b="1" i="1" lang="en-US" sz="1200" spc="-1" strike="noStrike">
                <a:solidFill>
                  <a:srgbClr val="0099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TP =</a:t>
            </a:r>
            <a:r>
              <a:rPr b="1" i="1" lang="en-US" sz="1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4" name=""/>
          <p:cNvSpPr/>
          <p:nvPr/>
        </p:nvSpPr>
        <p:spPr>
          <a:xfrm>
            <a:off x="171360" y="98280"/>
            <a:ext cx="199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H.323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5" name=""/>
          <p:cNvSpPr/>
          <p:nvPr/>
        </p:nvSpPr>
        <p:spPr>
          <a:xfrm>
            <a:off x="5292720" y="765000"/>
            <a:ext cx="136692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K Cal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1532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P: Establish multi-media communications sessions IETF’s RFC-2543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7280" indent="0">
              <a:lnSpc>
                <a:spcPct val="120000"/>
              </a:lnSpc>
              <a:buNone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7280" indent="-287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based protocol, similar to HTTP, SIP URLs SIP:me@myco.com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7280" indent="0">
              <a:lnSpc>
                <a:spcPct val="120000"/>
              </a:lnSpc>
              <a:buNone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7280" indent="-287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layer neutral, Reliable (TCP) or Unreliable (UDP), packet or byte network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7280" indent="0">
              <a:lnSpc>
                <a:spcPct val="120000"/>
              </a:lnSpc>
              <a:buNone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7280" indent="-287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/Server Application layer control protocol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7280" indent="0">
              <a:lnSpc>
                <a:spcPct val="120000"/>
              </a:lnSpc>
              <a:buNone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7280" indent="-287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P Entities include User Agents and proxy, registrar, location servers, redirect server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7280" indent="0">
              <a:lnSpc>
                <a:spcPct val="120000"/>
              </a:lnSpc>
              <a:buNone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7280" indent="-28728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8728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 has unique Call ID (call leg id) with CSeq (command sequence) for each transaction controlled by a Call Agent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7" name=""/>
          <p:cNvSpPr/>
          <p:nvPr/>
        </p:nvSpPr>
        <p:spPr>
          <a:xfrm>
            <a:off x="405720" y="685800"/>
            <a:ext cx="3676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IP (Session Initiation Protocol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8" name=""/>
          <p:cNvSpPr/>
          <p:nvPr/>
        </p:nvSpPr>
        <p:spPr>
          <a:xfrm>
            <a:off x="245880" y="98280"/>
            <a:ext cx="172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SIP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219320" y="1762200"/>
            <a:ext cx="6629400" cy="4114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0" name=""/>
          <p:cNvSpPr/>
          <p:nvPr/>
        </p:nvSpPr>
        <p:spPr>
          <a:xfrm>
            <a:off x="5791320" y="2832120"/>
            <a:ext cx="1828800" cy="13003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4206960"/>
            <a:ext cx="2971800" cy="439560"/>
          </a:xfrm>
          <a:prstGeom prst="rect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1360440" y="2827440"/>
            <a:ext cx="2152800" cy="1315440"/>
            <a:chOff x="1360440" y="2827440"/>
            <a:chExt cx="2152800" cy="1315440"/>
          </a:xfrm>
        </p:grpSpPr>
        <p:sp>
          <p:nvSpPr>
            <p:cNvPr id="673" name=""/>
            <p:cNvSpPr/>
            <p:nvPr/>
          </p:nvSpPr>
          <p:spPr>
            <a:xfrm>
              <a:off x="1360440" y="3789360"/>
              <a:ext cx="2152800" cy="3535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608120" y="3768480"/>
              <a:ext cx="14400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TP/RTC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360440" y="2827440"/>
              <a:ext cx="978120" cy="9619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413000" y="2827440"/>
              <a:ext cx="998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.71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.729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.723.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38560" y="2827440"/>
              <a:ext cx="1174680" cy="9619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22880" y="2976480"/>
              <a:ext cx="72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.26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.26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1360440" y="2200320"/>
            <a:ext cx="215280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0" name=""/>
          <p:cNvSpPr/>
          <p:nvPr/>
        </p:nvSpPr>
        <p:spPr>
          <a:xfrm>
            <a:off x="1490760" y="2238480"/>
            <a:ext cx="71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1" name=""/>
          <p:cNvSpPr/>
          <p:nvPr/>
        </p:nvSpPr>
        <p:spPr>
          <a:xfrm>
            <a:off x="2600280" y="2238480"/>
            <a:ext cx="8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2" name=""/>
          <p:cNvSpPr/>
          <p:nvPr/>
        </p:nvSpPr>
        <p:spPr>
          <a:xfrm>
            <a:off x="1360440" y="5210280"/>
            <a:ext cx="6259680" cy="44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3" name=""/>
          <p:cNvSpPr/>
          <p:nvPr/>
        </p:nvSpPr>
        <p:spPr>
          <a:xfrm>
            <a:off x="1360440" y="4708440"/>
            <a:ext cx="6259680" cy="44136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4" name=""/>
          <p:cNvSpPr/>
          <p:nvPr/>
        </p:nvSpPr>
        <p:spPr>
          <a:xfrm>
            <a:off x="1360440" y="4206960"/>
            <a:ext cx="3287880" cy="43956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5" name=""/>
          <p:cNvSpPr/>
          <p:nvPr/>
        </p:nvSpPr>
        <p:spPr>
          <a:xfrm>
            <a:off x="2896560" y="42800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6" name=""/>
          <p:cNvSpPr/>
          <p:nvPr/>
        </p:nvSpPr>
        <p:spPr>
          <a:xfrm>
            <a:off x="4364280" y="47912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7" name=""/>
          <p:cNvSpPr/>
          <p:nvPr/>
        </p:nvSpPr>
        <p:spPr>
          <a:xfrm>
            <a:off x="4072680" y="5292720"/>
            <a:ext cx="17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Layer, 802.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"/>
          <p:cNvSpPr/>
          <p:nvPr/>
        </p:nvSpPr>
        <p:spPr>
          <a:xfrm>
            <a:off x="2338560" y="2200320"/>
            <a:ext cx="0" cy="56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"/>
          <p:cNvSpPr/>
          <p:nvPr/>
        </p:nvSpPr>
        <p:spPr>
          <a:xfrm>
            <a:off x="3578400" y="2200320"/>
            <a:ext cx="404172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2832120"/>
            <a:ext cx="1067040" cy="13143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1" name=""/>
          <p:cNvSpPr/>
          <p:nvPr/>
        </p:nvSpPr>
        <p:spPr>
          <a:xfrm>
            <a:off x="3855960" y="328932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2" name=""/>
          <p:cNvSpPr/>
          <p:nvPr/>
        </p:nvSpPr>
        <p:spPr>
          <a:xfrm>
            <a:off x="3965760" y="2374920"/>
            <a:ext cx="32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minal control and manageme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3" name=""/>
          <p:cNvSpPr/>
          <p:nvPr/>
        </p:nvSpPr>
        <p:spPr>
          <a:xfrm>
            <a:off x="1360440" y="2827440"/>
            <a:ext cx="97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7520" bIns="-47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"/>
          <p:cNvSpPr/>
          <p:nvPr/>
        </p:nvSpPr>
        <p:spPr>
          <a:xfrm>
            <a:off x="1359000" y="1855800"/>
            <a:ext cx="123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P Sta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"/>
          <p:cNvSpPr/>
          <p:nvPr/>
        </p:nvSpPr>
        <p:spPr>
          <a:xfrm>
            <a:off x="1555920" y="4143240"/>
            <a:ext cx="12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7520" bIns="-47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"/>
          <p:cNvSpPr/>
          <p:nvPr/>
        </p:nvSpPr>
        <p:spPr>
          <a:xfrm>
            <a:off x="5945040" y="42800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"/>
          <p:cNvSpPr/>
          <p:nvPr/>
        </p:nvSpPr>
        <p:spPr>
          <a:xfrm>
            <a:off x="6115680" y="328608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P/Q.93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8" name=""/>
          <p:cNvSpPr/>
          <p:nvPr/>
        </p:nvSpPr>
        <p:spPr>
          <a:xfrm>
            <a:off x="4648320" y="2828880"/>
            <a:ext cx="1066680" cy="13143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"/>
          <p:cNvSpPr/>
          <p:nvPr/>
        </p:nvSpPr>
        <p:spPr>
          <a:xfrm>
            <a:off x="4877640" y="32860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0" name=""/>
          <p:cNvSpPr/>
          <p:nvPr/>
        </p:nvSpPr>
        <p:spPr>
          <a:xfrm>
            <a:off x="245880" y="98280"/>
            <a:ext cx="172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SIP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"/>
          <p:cNvSpPr/>
          <p:nvPr/>
        </p:nvSpPr>
        <p:spPr>
          <a:xfrm>
            <a:off x="826920" y="981000"/>
            <a:ext cx="276228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tocol Architec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6335640" y="232092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"/>
          <p:cNvSpPr/>
          <p:nvPr/>
        </p:nvSpPr>
        <p:spPr>
          <a:xfrm>
            <a:off x="6803640" y="1508040"/>
            <a:ext cx="12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VITE+SD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"/>
          <p:cNvSpPr/>
          <p:nvPr/>
        </p:nvSpPr>
        <p:spPr>
          <a:xfrm>
            <a:off x="7610400" y="232092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"/>
          <p:cNvSpPr/>
          <p:nvPr/>
        </p:nvSpPr>
        <p:spPr>
          <a:xfrm>
            <a:off x="6932160" y="366696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0+SD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6" name=""/>
          <p:cNvSpPr/>
          <p:nvPr/>
        </p:nvSpPr>
        <p:spPr>
          <a:xfrm>
            <a:off x="6335640" y="4297320"/>
            <a:ext cx="2006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7" name=""/>
          <p:cNvSpPr/>
          <p:nvPr/>
        </p:nvSpPr>
        <p:spPr>
          <a:xfrm>
            <a:off x="6941520" y="4022640"/>
            <a:ext cx="48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"/>
          <p:cNvSpPr/>
          <p:nvPr/>
        </p:nvSpPr>
        <p:spPr>
          <a:xfrm>
            <a:off x="6335640" y="4886280"/>
            <a:ext cx="20066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9" name=""/>
          <p:cNvSpPr/>
          <p:nvPr/>
        </p:nvSpPr>
        <p:spPr>
          <a:xfrm>
            <a:off x="6935040" y="455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RTP/RTC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"/>
          <p:cNvSpPr/>
          <p:nvPr/>
        </p:nvSpPr>
        <p:spPr>
          <a:xfrm>
            <a:off x="6335640" y="5419800"/>
            <a:ext cx="2006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"/>
          <p:cNvSpPr/>
          <p:nvPr/>
        </p:nvSpPr>
        <p:spPr>
          <a:xfrm>
            <a:off x="7102800" y="516564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6335640" y="5749920"/>
            <a:ext cx="2006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3" name=""/>
          <p:cNvSpPr/>
          <p:nvPr/>
        </p:nvSpPr>
        <p:spPr>
          <a:xfrm>
            <a:off x="7130880" y="549576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4" name=""/>
          <p:cNvSpPr/>
          <p:nvPr/>
        </p:nvSpPr>
        <p:spPr>
          <a:xfrm>
            <a:off x="5921280" y="2112840"/>
            <a:ext cx="351000" cy="4195800"/>
          </a:xfrm>
          <a:prstGeom prst="rect">
            <a:avLst/>
          </a:prstGeom>
          <a:gradFill rotWithShape="0">
            <a:gsLst>
              <a:gs pos="0">
                <a:srgbClr val="6f00ba"/>
              </a:gs>
              <a:gs pos="100000">
                <a:srgbClr val="b075d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5" name=""/>
          <p:cNvSpPr/>
          <p:nvPr/>
        </p:nvSpPr>
        <p:spPr>
          <a:xfrm rot="16200000">
            <a:off x="4996080" y="3418920"/>
            <a:ext cx="2135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User Agent 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"/>
          <p:cNvSpPr/>
          <p:nvPr/>
        </p:nvSpPr>
        <p:spPr>
          <a:xfrm>
            <a:off x="8342280" y="2092320"/>
            <a:ext cx="351000" cy="4140360"/>
          </a:xfrm>
          <a:prstGeom prst="rect">
            <a:avLst/>
          </a:prstGeom>
          <a:gradFill rotWithShape="0">
            <a:gsLst>
              <a:gs pos="0">
                <a:srgbClr val="6f00ba"/>
              </a:gs>
              <a:gs pos="100000">
                <a:srgbClr val="b075d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"/>
          <p:cNvSpPr/>
          <p:nvPr/>
        </p:nvSpPr>
        <p:spPr>
          <a:xfrm rot="5400000">
            <a:off x="7407720" y="3723120"/>
            <a:ext cx="2286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Use r Agent 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"/>
          <p:cNvSpPr/>
          <p:nvPr/>
        </p:nvSpPr>
        <p:spPr>
          <a:xfrm>
            <a:off x="7067520" y="2016000"/>
            <a:ext cx="511200" cy="1625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ea9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"/>
          <p:cNvSpPr/>
          <p:nvPr/>
        </p:nvSpPr>
        <p:spPr>
          <a:xfrm>
            <a:off x="6335640" y="348948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"/>
          <p:cNvSpPr/>
          <p:nvPr/>
        </p:nvSpPr>
        <p:spPr>
          <a:xfrm>
            <a:off x="7610400" y="348948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1" name=""/>
          <p:cNvSpPr/>
          <p:nvPr/>
        </p:nvSpPr>
        <p:spPr>
          <a:xfrm>
            <a:off x="7923240" y="17874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856200" y="178740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3" name=""/>
          <p:cNvSpPr/>
          <p:nvPr/>
        </p:nvSpPr>
        <p:spPr>
          <a:xfrm flipH="1" flipV="1">
            <a:off x="6703920" y="356544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7923240" y="35654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307440" y="738360"/>
            <a:ext cx="4797720" cy="26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equests from the User Client include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vit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y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0" i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3581280"/>
            <a:ext cx="45720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has 3-digit “Status Code”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1xx Inform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2xx Succes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3xx Redirec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4xx Client erro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5xx Server erro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6xx Global failur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7" name=""/>
          <p:cNvSpPr/>
          <p:nvPr/>
        </p:nvSpPr>
        <p:spPr>
          <a:xfrm>
            <a:off x="7605720" y="272736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"/>
          <p:cNvSpPr/>
          <p:nvPr/>
        </p:nvSpPr>
        <p:spPr>
          <a:xfrm>
            <a:off x="7605720" y="310824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9" name=""/>
          <p:cNvSpPr/>
          <p:nvPr/>
        </p:nvSpPr>
        <p:spPr>
          <a:xfrm>
            <a:off x="6386400" y="3108240"/>
            <a:ext cx="669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"/>
          <p:cNvSpPr/>
          <p:nvPr/>
        </p:nvSpPr>
        <p:spPr>
          <a:xfrm>
            <a:off x="6372360" y="2727360"/>
            <a:ext cx="669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1" name=""/>
          <p:cNvSpPr/>
          <p:nvPr/>
        </p:nvSpPr>
        <p:spPr>
          <a:xfrm>
            <a:off x="7720920" y="24224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"/>
          <p:cNvSpPr/>
          <p:nvPr/>
        </p:nvSpPr>
        <p:spPr>
          <a:xfrm>
            <a:off x="7720920" y="28036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8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"/>
          <p:cNvSpPr/>
          <p:nvPr/>
        </p:nvSpPr>
        <p:spPr>
          <a:xfrm>
            <a:off x="6501600" y="24224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"/>
          <p:cNvSpPr/>
          <p:nvPr/>
        </p:nvSpPr>
        <p:spPr>
          <a:xfrm>
            <a:off x="6501600" y="28036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8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"/>
          <p:cNvSpPr/>
          <p:nvPr/>
        </p:nvSpPr>
        <p:spPr>
          <a:xfrm>
            <a:off x="6935760" y="2727360"/>
            <a:ext cx="669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"/>
          <p:cNvSpPr/>
          <p:nvPr/>
        </p:nvSpPr>
        <p:spPr>
          <a:xfrm>
            <a:off x="7072200" y="2314440"/>
            <a:ext cx="669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"/>
          <p:cNvSpPr/>
          <p:nvPr/>
        </p:nvSpPr>
        <p:spPr>
          <a:xfrm>
            <a:off x="6996240" y="3108240"/>
            <a:ext cx="669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"/>
          <p:cNvSpPr/>
          <p:nvPr/>
        </p:nvSpPr>
        <p:spPr>
          <a:xfrm>
            <a:off x="7024680" y="3489480"/>
            <a:ext cx="669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"/>
          <p:cNvSpPr/>
          <p:nvPr/>
        </p:nvSpPr>
        <p:spPr>
          <a:xfrm>
            <a:off x="245880" y="98280"/>
            <a:ext cx="172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SIP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"/>
          <p:cNvSpPr/>
          <p:nvPr/>
        </p:nvSpPr>
        <p:spPr>
          <a:xfrm>
            <a:off x="5435640" y="1058760"/>
            <a:ext cx="136692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ll Fl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a “best effort” network, packet may be delayed or discarded at router/switch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c, highly compressed voice requires significant processing power and time, DSPs comm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723.1 delay 37.5 msec (30 msec frame + 7.5 msec look-ahead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729A delay 15 msec (10 msec frame + 5 msec look ahea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width Required = (Packet header + payload)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P/UDP/RTP packet headers = 40 byt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dding header &amp; payload, 723.1 needs 17Kbp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Serv prioritizes packets at layer 3 with TOS byt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 p/Q, priority &amp; queuing at layer 2, with TOS bit in Ethernet packet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"/>
          <p:cNvSpPr/>
          <p:nvPr/>
        </p:nvSpPr>
        <p:spPr>
          <a:xfrm>
            <a:off x="296280" y="762120"/>
            <a:ext cx="2841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oS (Quality of Service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3" name=""/>
          <p:cNvSpPr/>
          <p:nvPr/>
        </p:nvSpPr>
        <p:spPr>
          <a:xfrm>
            <a:off x="172440" y="98280"/>
            <a:ext cx="2038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304920" y="4343400"/>
            <a:ext cx="4190760" cy="190512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/>
          </p:nvPr>
        </p:nvSpPr>
        <p:spPr>
          <a:xfrm>
            <a:off x="380520" y="11430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 server controls use of scarce Public IP addresse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 generally not compatible with standard VoIP protocols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.32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T assigns public IP address and port for outgoing request changing address &amp; port in original packe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r end sends H.245 request to open a logical second port on same IP address.  NAT does not recognize the request on a different port and discards packet as illegal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6" name=""/>
          <p:cNvSpPr/>
          <p:nvPr/>
        </p:nvSpPr>
        <p:spPr>
          <a:xfrm>
            <a:off x="372960" y="685800"/>
            <a:ext cx="420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T (Network Address Translation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6095880" y="4572000"/>
            <a:ext cx="1637640" cy="1091520"/>
            <a:chOff x="6095880" y="4572000"/>
            <a:chExt cx="1637640" cy="1091520"/>
          </a:xfrm>
        </p:grpSpPr>
        <p:sp>
          <p:nvSpPr>
            <p:cNvPr id="748" name=""/>
            <p:cNvSpPr/>
            <p:nvPr/>
          </p:nvSpPr>
          <p:spPr>
            <a:xfrm>
              <a:off x="6099480" y="4572000"/>
              <a:ext cx="105048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095880" y="4605840"/>
              <a:ext cx="1637640" cy="1057680"/>
              <a:chOff x="6095880" y="4605840"/>
              <a:chExt cx="1637640" cy="1057680"/>
            </a:xfrm>
          </p:grpSpPr>
          <p:pic>
            <p:nvPicPr>
              <p:cNvPr id="7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5880" y="4605840"/>
                <a:ext cx="1637640" cy="105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95880" y="4605840"/>
                <a:ext cx="1637640" cy="1057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2" name=""/>
            <p:cNvSpPr/>
            <p:nvPr/>
          </p:nvSpPr>
          <p:spPr>
            <a:xfrm>
              <a:off x="6386400" y="4991040"/>
              <a:ext cx="902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2542320" y="579132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4648320" y="5334120"/>
            <a:ext cx="144756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1809720" y="5734080"/>
            <a:ext cx="2254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6" name=""/>
          <p:cNvSpPr/>
          <p:nvPr/>
        </p:nvSpPr>
        <p:spPr>
          <a:xfrm flipH="1" flipV="1">
            <a:off x="1536840" y="5446800"/>
            <a:ext cx="2728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7" name=""/>
          <p:cNvSpPr/>
          <p:nvPr/>
        </p:nvSpPr>
        <p:spPr>
          <a:xfrm flipH="1" flipV="1">
            <a:off x="3429000" y="5187600"/>
            <a:ext cx="29376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8" name=""/>
          <p:cNvSpPr/>
          <p:nvPr/>
        </p:nvSpPr>
        <p:spPr>
          <a:xfrm flipH="1" flipV="1">
            <a:off x="2491920" y="5446800"/>
            <a:ext cx="2048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3"/>
          <a:stretch/>
        </p:blipFill>
        <p:spPr>
          <a:xfrm>
            <a:off x="1332000" y="5102280"/>
            <a:ext cx="1541520" cy="55404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4"/>
          <a:stretch/>
        </p:blipFill>
        <p:spPr>
          <a:xfrm>
            <a:off x="2819520" y="4654440"/>
            <a:ext cx="990360" cy="55584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3581280" y="5791320"/>
            <a:ext cx="16002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 anchorCtr="1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Router running NA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2" name=""/>
          <p:cNvSpPr/>
          <p:nvPr/>
        </p:nvSpPr>
        <p:spPr>
          <a:xfrm>
            <a:off x="3506760" y="5180040"/>
            <a:ext cx="20559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 anchorCtr="1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 = xxx.xxx.xxx.xxx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3" name=""/>
          <p:cNvSpPr/>
          <p:nvPr/>
        </p:nvSpPr>
        <p:spPr>
          <a:xfrm>
            <a:off x="2282760" y="4417920"/>
            <a:ext cx="20559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 anchorCtr="1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 = yyy.yyy.yyy.yy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4494240"/>
            <a:ext cx="20559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 anchorCtr="1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 = yyy.yyy.yyy.yy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5" name=""/>
          <p:cNvSpPr/>
          <p:nvPr/>
        </p:nvSpPr>
        <p:spPr>
          <a:xfrm>
            <a:off x="453960" y="4797360"/>
            <a:ext cx="20559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 anchorCtr="1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baseline="-25000">
                <a:solidFill>
                  <a:srgbClr val="000000"/>
                </a:solidFill>
                <a:latin typeface="Arial"/>
              </a:rPr>
              <a:t>IP = yyy.yyy.yyy.yy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5"/>
          <a:stretch/>
        </p:blipFill>
        <p:spPr>
          <a:xfrm>
            <a:off x="4038480" y="5486400"/>
            <a:ext cx="609840" cy="4572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1447920" y="5943600"/>
            <a:ext cx="16002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 anchorCtr="1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Private IP Addres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8" name=""/>
          <p:cNvSpPr/>
          <p:nvPr/>
        </p:nvSpPr>
        <p:spPr>
          <a:xfrm>
            <a:off x="172440" y="98280"/>
            <a:ext cx="2038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7162920" y="6400800"/>
            <a:ext cx="174600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0" name=""/>
          <p:cNvSpPr/>
          <p:nvPr/>
        </p:nvSpPr>
        <p:spPr>
          <a:xfrm>
            <a:off x="865080" y="2298600"/>
            <a:ext cx="74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000000"/>
                </a:solidFill>
                <a:latin typeface="Verdana"/>
              </a:rPr>
              <a:t>VoIP of ipLDK-60 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3355920" y="5599080"/>
            <a:ext cx="2430360" cy="40500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2"/>
          <a:srcRect l="25926" t="29468" r="23988" b="30472"/>
          <a:stretch/>
        </p:blipFill>
        <p:spPr>
          <a:xfrm>
            <a:off x="3141720" y="4503600"/>
            <a:ext cx="2863800" cy="78768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3"/>
          <a:stretch/>
        </p:blipFill>
        <p:spPr>
          <a:xfrm>
            <a:off x="2916360" y="4508640"/>
            <a:ext cx="3314520" cy="82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954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1. Cont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2987640" y="1916280"/>
            <a:ext cx="316872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What is VoIP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Background &amp; Benefit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VoIP Concepts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What is H.323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What is SIP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503280" y="528480"/>
            <a:ext cx="8064360" cy="59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Support maximum </a:t>
            </a:r>
            <a:r>
              <a:rPr b="1" lang="ko-KR" sz="1600" spc="-1" strike="noStrike">
                <a:solidFill>
                  <a:srgbClr val="ff0000"/>
                </a:solidFill>
                <a:latin typeface="Verdana"/>
              </a:rPr>
              <a:t>8 channels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(including VOIB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  <a:ea typeface="굴림"/>
              </a:rPr>
              <a:t>Each devices supports 4channel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Dual SIP/H.323 co-exist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4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ITU-T H.323 v4 and H.450 standard complian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  <a:ea typeface="굴림"/>
              </a:rPr>
              <a:t>Support H.323 fast connect, early H.245 and H.245 tunnelling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  <a:ea typeface="굴림"/>
              </a:rPr>
              <a:t>Support H.323 Gatekeeper register, direct and route calls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  <a:ea typeface="굴림"/>
              </a:rPr>
              <a:t>Inband /out of band DTMF transmission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SIP RFC 2543/3261 standard complian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  <a:ea typeface="굴림"/>
              </a:rPr>
              <a:t>Support Inband /RFC 2833 /Out of band(INFO) DTMF transmiss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Support IPKTS Protocol (for RSG &amp; IP-Phon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Support T.38 FAX Transmiss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  <a:ea typeface="굴림"/>
              </a:rPr>
              <a:t>Automatic voice/fax switch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  <a:ea typeface="굴림"/>
              </a:rPr>
              <a:t>"Fax ByPass" mode to pass Fax/Modem data at high-bit r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4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odec : G.711A/μ-law, G.723.1(5.3k/6.3k), G.729/G.729A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Behind NAT friendly for SIP/H.323 call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Maintenance : Console(RS-232) /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="/>
              </a:rPr>
              <a:t>Web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="/>
              </a:rPr>
              <a:t>Browser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5" name=""/>
          <p:cNvSpPr/>
          <p:nvPr/>
        </p:nvSpPr>
        <p:spPr>
          <a:xfrm>
            <a:off x="356760" y="101520"/>
            <a:ext cx="296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eatures and Benefi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238320" y="98280"/>
            <a:ext cx="2106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D Indication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7" name=""/>
          <p:cNvSpPr/>
          <p:nvPr/>
        </p:nvSpPr>
        <p:spPr>
          <a:xfrm>
            <a:off x="1122480" y="990720"/>
            <a:ext cx="3809880" cy="37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LDK60-VOI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LE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체"/>
              </a:rPr>
              <a:t>Indication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체"/>
              </a:rPr>
              <a:t>Eight(8) Yellow LEDs (LD1~LD8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체"/>
              </a:rPr>
              <a:t>  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체"/>
              </a:rPr>
              <a:t>Channel Assign Info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체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체"/>
              </a:rPr>
              <a:t>Two Red LEDs  (LD9~LD10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체"/>
              </a:rPr>
              <a:t>  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체"/>
              </a:rPr>
              <a:t>DSP Operating Statu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체"/>
              </a:rPr>
              <a:t>  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체"/>
              </a:rPr>
              <a:t>LD10 : Basic DS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체"/>
              </a:rPr>
              <a:t>  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돋움체"/>
              </a:rPr>
              <a:t>LD9 : Extension  DS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3657600" cy="281304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323640" y="98280"/>
            <a:ext cx="5036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B S/W Upgrade Method (Web-based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0" name=""/>
          <p:cNvSpPr/>
          <p:nvPr/>
        </p:nvSpPr>
        <p:spPr>
          <a:xfrm>
            <a:off x="304920" y="685800"/>
            <a:ext cx="577980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VOI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1)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nnect the serial port of VOIB and enter the maintenance windo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2) Enter ‘dir c’ and press enter. And check if there is a left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3) If there is a left file, type ‘del c: [filename]’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4) Connect the WEB on a PC for </a:t>
            </a:r>
            <a:r>
              <a:rPr b="0" lang="ko-KR" sz="1400" spc="-1" strike="noStrike" u="sng">
                <a:solidFill>
                  <a:srgbClr val="000000"/>
                </a:solidFill>
                <a:uFillTx/>
                <a:latin typeface="Arial"/>
                <a:ea typeface="굴림체"/>
              </a:rPr>
              <a:t>VOIB’s IP addre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5) Search and Upload the file which wants to upgrad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31240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굴림"/>
              </a:rPr>
              <a:t>4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31240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굴림"/>
              </a:rPr>
              <a:t>5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6242040" y="1523880"/>
          <a:ext cx="2362320" cy="6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2040" y="1523880"/>
                    <a:ext cx="23623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5" name=""/>
          <p:cNvSpPr/>
          <p:nvPr/>
        </p:nvSpPr>
        <p:spPr>
          <a:xfrm>
            <a:off x="5938200" y="15238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굴림체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1676520" y="480060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4648320"/>
            <a:ext cx="2286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PGM 340/ Flex. 5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"/>
          <p:cNvSpPr/>
          <p:nvPr/>
        </p:nvSpPr>
        <p:spPr>
          <a:xfrm>
            <a:off x="685800" y="3352680"/>
            <a:ext cx="11430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1828440" y="2590920"/>
            <a:ext cx="198108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4"/>
          <a:stretch/>
        </p:blipFill>
        <p:spPr>
          <a:xfrm>
            <a:off x="4495680" y="3200400"/>
            <a:ext cx="3894120" cy="29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325440" y="98280"/>
            <a:ext cx="5036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B S/W Upgrade Method (Web-based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"/>
          <p:cNvSpPr/>
          <p:nvPr/>
        </p:nvSpPr>
        <p:spPr>
          <a:xfrm>
            <a:off x="304920" y="685800"/>
            <a:ext cx="51051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Select the Rom fil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"/>
          <p:cNvSpPr/>
          <p:nvPr/>
        </p:nvSpPr>
        <p:spPr>
          <a:xfrm>
            <a:off x="2340000" y="14130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굴림"/>
              </a:rPr>
              <a:t>6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"/>
          <p:cNvSpPr/>
          <p:nvPr/>
        </p:nvSpPr>
        <p:spPr>
          <a:xfrm>
            <a:off x="468360" y="32130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굴림"/>
              </a:rPr>
              <a:t>7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2957400" y="765000"/>
            <a:ext cx="4105440" cy="202248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1044720" y="3241800"/>
            <a:ext cx="3671640" cy="311472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3"/>
          <a:stretch/>
        </p:blipFill>
        <p:spPr>
          <a:xfrm>
            <a:off x="5005440" y="3213000"/>
            <a:ext cx="3743280" cy="315432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250920" y="2924280"/>
            <a:ext cx="4608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7) Press [Upgrade] button after selecting the Rom fi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252360" y="98280"/>
            <a:ext cx="5036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B S/W Upgrade Method (Web-based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"/>
          <p:cNvSpPr/>
          <p:nvPr/>
        </p:nvSpPr>
        <p:spPr>
          <a:xfrm>
            <a:off x="304920" y="825480"/>
            <a:ext cx="72198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8) If the uploading of a file is finished, check if it is successful by ‘dir c:’ on a serial po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9) The filename is changed into ‘_File_voib60_pack_on_disk’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10) If enter ‘dir c:’, it show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826920" y="2455920"/>
            <a:ext cx="6985080" cy="16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273240" y="98280"/>
            <a:ext cx="241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B Maintenanc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"/>
          <p:cNvSpPr/>
          <p:nvPr/>
        </p:nvSpPr>
        <p:spPr>
          <a:xfrm>
            <a:off x="304920" y="736560"/>
            <a:ext cx="8229600" cy="9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Baud Rate : 38400 bp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e  Mode (PASSWORD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ann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1066680" y="1773360"/>
            <a:ext cx="6096240" cy="42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273240" y="98280"/>
            <a:ext cx="241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B Maintenanc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"/>
          <p:cNvSpPr/>
          <p:nvPr/>
        </p:nvSpPr>
        <p:spPr>
          <a:xfrm>
            <a:off x="304920" y="8064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e Setting Mode(root:\&gt; t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1219320" y="1419120"/>
            <a:ext cx="434340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4038480"/>
            <a:ext cx="8153280" cy="213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8153280" cy="213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44920" y="1295280"/>
            <a:ext cx="3663720" cy="1581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83480" y="17280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268280" y="5214960"/>
            <a:ext cx="678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690560" y="4691160"/>
            <a:ext cx="7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39880" y="4995720"/>
            <a:ext cx="587520" cy="4892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6745320" y="4730760"/>
            <a:ext cx="725400" cy="753840"/>
            <a:chOff x="6745320" y="4730760"/>
            <a:chExt cx="725400" cy="753840"/>
          </a:xfrm>
        </p:grpSpPr>
        <p:sp>
          <p:nvSpPr>
            <p:cNvPr id="57" name=""/>
            <p:cNvSpPr/>
            <p:nvPr/>
          </p:nvSpPr>
          <p:spPr>
            <a:xfrm>
              <a:off x="6745320" y="4730760"/>
              <a:ext cx="72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795000" y="4995720"/>
              <a:ext cx="58752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2635200" y="4322880"/>
            <a:ext cx="3663720" cy="1580760"/>
            <a:chOff x="2635200" y="4322880"/>
            <a:chExt cx="3663720" cy="158076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2635200" y="4322880"/>
              <a:ext cx="3663720" cy="15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794760" y="4920480"/>
              <a:ext cx="131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IP Network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2" name=""/>
          <p:cNvSpPr/>
          <p:nvPr/>
        </p:nvSpPr>
        <p:spPr>
          <a:xfrm flipV="1">
            <a:off x="2282760" y="4668480"/>
            <a:ext cx="219384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2282760" y="5221440"/>
            <a:ext cx="21938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4476600" y="4675320"/>
            <a:ext cx="2337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476600" y="5227560"/>
            <a:ext cx="233712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4183200" y="5329080"/>
            <a:ext cx="587160" cy="489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4183200" y="4456080"/>
            <a:ext cx="587160" cy="488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68280" y="2084400"/>
            <a:ext cx="678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54200" y="1415880"/>
            <a:ext cx="725400" cy="1006560"/>
            <a:chOff x="1654200" y="1415880"/>
            <a:chExt cx="725400" cy="1006560"/>
          </a:xfrm>
        </p:grpSpPr>
        <p:sp>
          <p:nvSpPr>
            <p:cNvPr id="70" name=""/>
            <p:cNvSpPr/>
            <p:nvPr/>
          </p:nvSpPr>
          <p:spPr>
            <a:xfrm>
              <a:off x="1654200" y="1415880"/>
              <a:ext cx="72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BX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1792080" y="1755720"/>
            <a:ext cx="427680" cy="666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792080" y="1755720"/>
                      <a:ext cx="4276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" name=""/>
          <p:cNvGrpSpPr/>
          <p:nvPr/>
        </p:nvGrpSpPr>
        <p:grpSpPr>
          <a:xfrm>
            <a:off x="6730920" y="1415880"/>
            <a:ext cx="725400" cy="1006560"/>
            <a:chOff x="6730920" y="1415880"/>
            <a:chExt cx="725400" cy="1006560"/>
          </a:xfrm>
        </p:grpSpPr>
        <p:sp>
          <p:nvSpPr>
            <p:cNvPr id="74" name=""/>
            <p:cNvSpPr/>
            <p:nvPr/>
          </p:nvSpPr>
          <p:spPr>
            <a:xfrm>
              <a:off x="6730920" y="1415880"/>
              <a:ext cx="72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BX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5" name=""/>
            <p:cNvGraphicFramePr/>
            <p:nvPr/>
          </p:nvGraphicFramePr>
          <p:xfrm>
            <a:off x="6868800" y="1755720"/>
            <a:ext cx="427680" cy="666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68800" y="1755720"/>
                      <a:ext cx="4276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7" name=""/>
          <p:cNvGrpSpPr/>
          <p:nvPr/>
        </p:nvGrpSpPr>
        <p:grpSpPr>
          <a:xfrm>
            <a:off x="2320920" y="5283360"/>
            <a:ext cx="291960" cy="142560"/>
            <a:chOff x="2320920" y="5283360"/>
            <a:chExt cx="291960" cy="142560"/>
          </a:xfrm>
        </p:grpSpPr>
        <p:sp>
          <p:nvSpPr>
            <p:cNvPr id="78" name=""/>
            <p:cNvSpPr/>
            <p:nvPr/>
          </p:nvSpPr>
          <p:spPr>
            <a:xfrm>
              <a:off x="2350080" y="5283360"/>
              <a:ext cx="116640" cy="14256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192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96" y="384"/>
                  </a:lnTo>
                  <a:lnTo>
                    <a:pt x="192" y="384"/>
                  </a:lnTo>
                  <a:lnTo>
                    <a:pt x="192" y="0"/>
                  </a:lnTo>
                  <a:lnTo>
                    <a:pt x="288" y="0"/>
                  </a:lnTo>
                  <a:lnTo>
                    <a:pt x="288" y="384"/>
                  </a:lnTo>
                  <a:lnTo>
                    <a:pt x="384" y="384"/>
                  </a:lnTo>
                  <a:lnTo>
                    <a:pt x="384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66720" y="5283360"/>
              <a:ext cx="116640" cy="14256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192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96" y="384"/>
                  </a:lnTo>
                  <a:lnTo>
                    <a:pt x="192" y="384"/>
                  </a:lnTo>
                  <a:lnTo>
                    <a:pt x="192" y="0"/>
                  </a:lnTo>
                  <a:lnTo>
                    <a:pt x="288" y="0"/>
                  </a:lnTo>
                  <a:lnTo>
                    <a:pt x="288" y="384"/>
                  </a:lnTo>
                  <a:lnTo>
                    <a:pt x="384" y="384"/>
                  </a:lnTo>
                  <a:lnTo>
                    <a:pt x="384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20920" y="535464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505560" y="5283360"/>
            <a:ext cx="291960" cy="142560"/>
            <a:chOff x="6505560" y="5283360"/>
            <a:chExt cx="291960" cy="142560"/>
          </a:xfrm>
        </p:grpSpPr>
        <p:sp>
          <p:nvSpPr>
            <p:cNvPr id="82" name=""/>
            <p:cNvSpPr/>
            <p:nvPr/>
          </p:nvSpPr>
          <p:spPr>
            <a:xfrm>
              <a:off x="6534720" y="5283360"/>
              <a:ext cx="116640" cy="14256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192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96" y="384"/>
                  </a:lnTo>
                  <a:lnTo>
                    <a:pt x="192" y="384"/>
                  </a:lnTo>
                  <a:lnTo>
                    <a:pt x="192" y="0"/>
                  </a:lnTo>
                  <a:lnTo>
                    <a:pt x="288" y="0"/>
                  </a:lnTo>
                  <a:lnTo>
                    <a:pt x="288" y="384"/>
                  </a:lnTo>
                  <a:lnTo>
                    <a:pt x="384" y="384"/>
                  </a:lnTo>
                  <a:lnTo>
                    <a:pt x="384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51360" y="5283360"/>
              <a:ext cx="116640" cy="14256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0" y="192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96" y="384"/>
                  </a:lnTo>
                  <a:lnTo>
                    <a:pt x="192" y="384"/>
                  </a:lnTo>
                  <a:lnTo>
                    <a:pt x="192" y="0"/>
                  </a:lnTo>
                  <a:lnTo>
                    <a:pt x="288" y="0"/>
                  </a:lnTo>
                  <a:lnTo>
                    <a:pt x="288" y="384"/>
                  </a:lnTo>
                  <a:lnTo>
                    <a:pt x="384" y="384"/>
                  </a:lnTo>
                  <a:lnTo>
                    <a:pt x="384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05560" y="535464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459080" y="5253120"/>
            <a:ext cx="293400" cy="202320"/>
            <a:chOff x="1459080" y="5253120"/>
            <a:chExt cx="293400" cy="202320"/>
          </a:xfrm>
        </p:grpSpPr>
        <p:sp>
          <p:nvSpPr>
            <p:cNvPr id="86" name=""/>
            <p:cNvSpPr/>
            <p:nvPr/>
          </p:nvSpPr>
          <p:spPr>
            <a:xfrm>
              <a:off x="1486440" y="5253120"/>
              <a:ext cx="118800" cy="1674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0" y="320"/>
                  </a:moveTo>
                  <a:cubicBezTo>
                    <a:pt x="32" y="264"/>
                    <a:pt x="64" y="208"/>
                    <a:pt x="96" y="224"/>
                  </a:cubicBezTo>
                  <a:cubicBezTo>
                    <a:pt x="128" y="240"/>
                    <a:pt x="160" y="432"/>
                    <a:pt x="192" y="416"/>
                  </a:cubicBezTo>
                  <a:cubicBezTo>
                    <a:pt x="224" y="400"/>
                    <a:pt x="256" y="112"/>
                    <a:pt x="288" y="128"/>
                  </a:cubicBezTo>
                  <a:cubicBezTo>
                    <a:pt x="320" y="144"/>
                    <a:pt x="352" y="528"/>
                    <a:pt x="384" y="512"/>
                  </a:cubicBezTo>
                  <a:cubicBezTo>
                    <a:pt x="416" y="496"/>
                    <a:pt x="456" y="64"/>
                    <a:pt x="480" y="32"/>
                  </a:cubicBezTo>
                  <a:cubicBezTo>
                    <a:pt x="504" y="0"/>
                    <a:pt x="516" y="160"/>
                    <a:pt x="528" y="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1605600" y="5287680"/>
              <a:ext cx="118800" cy="1674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0" y="320"/>
                  </a:moveTo>
                  <a:cubicBezTo>
                    <a:pt x="32" y="264"/>
                    <a:pt x="64" y="208"/>
                    <a:pt x="96" y="224"/>
                  </a:cubicBezTo>
                  <a:cubicBezTo>
                    <a:pt x="128" y="240"/>
                    <a:pt x="160" y="432"/>
                    <a:pt x="192" y="416"/>
                  </a:cubicBezTo>
                  <a:cubicBezTo>
                    <a:pt x="224" y="400"/>
                    <a:pt x="256" y="112"/>
                    <a:pt x="288" y="128"/>
                  </a:cubicBezTo>
                  <a:cubicBezTo>
                    <a:pt x="320" y="144"/>
                    <a:pt x="352" y="528"/>
                    <a:pt x="384" y="512"/>
                  </a:cubicBezTo>
                  <a:cubicBezTo>
                    <a:pt x="416" y="496"/>
                    <a:pt x="456" y="64"/>
                    <a:pt x="480" y="32"/>
                  </a:cubicBezTo>
                  <a:cubicBezTo>
                    <a:pt x="504" y="0"/>
                    <a:pt x="516" y="160"/>
                    <a:pt x="528" y="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59080" y="5354640"/>
              <a:ext cx="29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334280" y="5253120"/>
            <a:ext cx="293760" cy="202320"/>
            <a:chOff x="7334280" y="5253120"/>
            <a:chExt cx="293760" cy="202320"/>
          </a:xfrm>
        </p:grpSpPr>
        <p:sp>
          <p:nvSpPr>
            <p:cNvPr id="90" name=""/>
            <p:cNvSpPr/>
            <p:nvPr/>
          </p:nvSpPr>
          <p:spPr>
            <a:xfrm>
              <a:off x="7362000" y="5253120"/>
              <a:ext cx="119160" cy="1674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0" y="320"/>
                  </a:moveTo>
                  <a:cubicBezTo>
                    <a:pt x="32" y="264"/>
                    <a:pt x="64" y="208"/>
                    <a:pt x="96" y="224"/>
                  </a:cubicBezTo>
                  <a:cubicBezTo>
                    <a:pt x="128" y="240"/>
                    <a:pt x="160" y="432"/>
                    <a:pt x="192" y="416"/>
                  </a:cubicBezTo>
                  <a:cubicBezTo>
                    <a:pt x="224" y="400"/>
                    <a:pt x="256" y="112"/>
                    <a:pt x="288" y="128"/>
                  </a:cubicBezTo>
                  <a:cubicBezTo>
                    <a:pt x="320" y="144"/>
                    <a:pt x="352" y="528"/>
                    <a:pt x="384" y="512"/>
                  </a:cubicBezTo>
                  <a:cubicBezTo>
                    <a:pt x="416" y="496"/>
                    <a:pt x="456" y="64"/>
                    <a:pt x="480" y="32"/>
                  </a:cubicBezTo>
                  <a:cubicBezTo>
                    <a:pt x="504" y="0"/>
                    <a:pt x="516" y="160"/>
                    <a:pt x="528" y="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7480440" y="5287680"/>
              <a:ext cx="119160" cy="1674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0" y="320"/>
                  </a:moveTo>
                  <a:cubicBezTo>
                    <a:pt x="32" y="264"/>
                    <a:pt x="64" y="208"/>
                    <a:pt x="96" y="224"/>
                  </a:cubicBezTo>
                  <a:cubicBezTo>
                    <a:pt x="128" y="240"/>
                    <a:pt x="160" y="432"/>
                    <a:pt x="192" y="416"/>
                  </a:cubicBezTo>
                  <a:cubicBezTo>
                    <a:pt x="224" y="400"/>
                    <a:pt x="256" y="112"/>
                    <a:pt x="288" y="128"/>
                  </a:cubicBezTo>
                  <a:cubicBezTo>
                    <a:pt x="320" y="144"/>
                    <a:pt x="352" y="528"/>
                    <a:pt x="384" y="512"/>
                  </a:cubicBezTo>
                  <a:cubicBezTo>
                    <a:pt x="416" y="496"/>
                    <a:pt x="456" y="64"/>
                    <a:pt x="480" y="32"/>
                  </a:cubicBezTo>
                  <a:cubicBezTo>
                    <a:pt x="504" y="0"/>
                    <a:pt x="516" y="160"/>
                    <a:pt x="528" y="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34280" y="5354640"/>
              <a:ext cx="29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428840" y="2117880"/>
            <a:ext cx="293760" cy="202320"/>
            <a:chOff x="1428840" y="2117880"/>
            <a:chExt cx="293760" cy="202320"/>
          </a:xfrm>
        </p:grpSpPr>
        <p:sp>
          <p:nvSpPr>
            <p:cNvPr id="94" name=""/>
            <p:cNvSpPr/>
            <p:nvPr/>
          </p:nvSpPr>
          <p:spPr>
            <a:xfrm>
              <a:off x="1456560" y="2117880"/>
              <a:ext cx="119160" cy="1674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0" y="320"/>
                  </a:moveTo>
                  <a:cubicBezTo>
                    <a:pt x="32" y="264"/>
                    <a:pt x="64" y="208"/>
                    <a:pt x="96" y="224"/>
                  </a:cubicBezTo>
                  <a:cubicBezTo>
                    <a:pt x="128" y="240"/>
                    <a:pt x="160" y="432"/>
                    <a:pt x="192" y="416"/>
                  </a:cubicBezTo>
                  <a:cubicBezTo>
                    <a:pt x="224" y="400"/>
                    <a:pt x="256" y="112"/>
                    <a:pt x="288" y="128"/>
                  </a:cubicBezTo>
                  <a:cubicBezTo>
                    <a:pt x="320" y="144"/>
                    <a:pt x="352" y="528"/>
                    <a:pt x="384" y="512"/>
                  </a:cubicBezTo>
                  <a:cubicBezTo>
                    <a:pt x="416" y="496"/>
                    <a:pt x="456" y="64"/>
                    <a:pt x="480" y="32"/>
                  </a:cubicBezTo>
                  <a:cubicBezTo>
                    <a:pt x="504" y="0"/>
                    <a:pt x="516" y="160"/>
                    <a:pt x="528" y="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1575000" y="2152440"/>
              <a:ext cx="119160" cy="1674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0" y="320"/>
                  </a:moveTo>
                  <a:cubicBezTo>
                    <a:pt x="32" y="264"/>
                    <a:pt x="64" y="208"/>
                    <a:pt x="96" y="224"/>
                  </a:cubicBezTo>
                  <a:cubicBezTo>
                    <a:pt x="128" y="240"/>
                    <a:pt x="160" y="432"/>
                    <a:pt x="192" y="416"/>
                  </a:cubicBezTo>
                  <a:cubicBezTo>
                    <a:pt x="224" y="400"/>
                    <a:pt x="256" y="112"/>
                    <a:pt x="288" y="128"/>
                  </a:cubicBezTo>
                  <a:cubicBezTo>
                    <a:pt x="320" y="144"/>
                    <a:pt x="352" y="528"/>
                    <a:pt x="384" y="512"/>
                  </a:cubicBezTo>
                  <a:cubicBezTo>
                    <a:pt x="416" y="496"/>
                    <a:pt x="456" y="64"/>
                    <a:pt x="480" y="32"/>
                  </a:cubicBezTo>
                  <a:cubicBezTo>
                    <a:pt x="504" y="0"/>
                    <a:pt x="516" y="160"/>
                    <a:pt x="528" y="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28840" y="2219400"/>
              <a:ext cx="29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443720" y="2117880"/>
            <a:ext cx="292320" cy="202320"/>
            <a:chOff x="7443720" y="2117880"/>
            <a:chExt cx="292320" cy="202320"/>
          </a:xfrm>
        </p:grpSpPr>
        <p:sp>
          <p:nvSpPr>
            <p:cNvPr id="98" name=""/>
            <p:cNvSpPr/>
            <p:nvPr/>
          </p:nvSpPr>
          <p:spPr>
            <a:xfrm>
              <a:off x="7471080" y="2117880"/>
              <a:ext cx="118440" cy="1674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0" y="320"/>
                  </a:moveTo>
                  <a:cubicBezTo>
                    <a:pt x="32" y="264"/>
                    <a:pt x="64" y="208"/>
                    <a:pt x="96" y="224"/>
                  </a:cubicBezTo>
                  <a:cubicBezTo>
                    <a:pt x="128" y="240"/>
                    <a:pt x="160" y="432"/>
                    <a:pt x="192" y="416"/>
                  </a:cubicBezTo>
                  <a:cubicBezTo>
                    <a:pt x="224" y="400"/>
                    <a:pt x="256" y="112"/>
                    <a:pt x="288" y="128"/>
                  </a:cubicBezTo>
                  <a:cubicBezTo>
                    <a:pt x="320" y="144"/>
                    <a:pt x="352" y="528"/>
                    <a:pt x="384" y="512"/>
                  </a:cubicBezTo>
                  <a:cubicBezTo>
                    <a:pt x="416" y="496"/>
                    <a:pt x="456" y="64"/>
                    <a:pt x="480" y="32"/>
                  </a:cubicBezTo>
                  <a:cubicBezTo>
                    <a:pt x="504" y="0"/>
                    <a:pt x="516" y="160"/>
                    <a:pt x="528" y="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7589160" y="2152440"/>
              <a:ext cx="118440" cy="1674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0" y="320"/>
                  </a:moveTo>
                  <a:cubicBezTo>
                    <a:pt x="32" y="264"/>
                    <a:pt x="64" y="208"/>
                    <a:pt x="96" y="224"/>
                  </a:cubicBezTo>
                  <a:cubicBezTo>
                    <a:pt x="128" y="240"/>
                    <a:pt x="160" y="432"/>
                    <a:pt x="192" y="416"/>
                  </a:cubicBezTo>
                  <a:cubicBezTo>
                    <a:pt x="224" y="400"/>
                    <a:pt x="256" y="112"/>
                    <a:pt x="288" y="128"/>
                  </a:cubicBezTo>
                  <a:cubicBezTo>
                    <a:pt x="320" y="144"/>
                    <a:pt x="352" y="528"/>
                    <a:pt x="384" y="512"/>
                  </a:cubicBezTo>
                  <a:cubicBezTo>
                    <a:pt x="416" y="496"/>
                    <a:pt x="456" y="64"/>
                    <a:pt x="480" y="32"/>
                  </a:cubicBezTo>
                  <a:cubicBezTo>
                    <a:pt x="504" y="0"/>
                    <a:pt x="516" y="160"/>
                    <a:pt x="528" y="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43720" y="2219400"/>
              <a:ext cx="2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297160" y="2117880"/>
            <a:ext cx="291960" cy="202320"/>
            <a:chOff x="2297160" y="2117880"/>
            <a:chExt cx="291960" cy="202320"/>
          </a:xfrm>
        </p:grpSpPr>
        <p:sp>
          <p:nvSpPr>
            <p:cNvPr id="102" name=""/>
            <p:cNvSpPr/>
            <p:nvPr/>
          </p:nvSpPr>
          <p:spPr>
            <a:xfrm>
              <a:off x="2324520" y="2117880"/>
              <a:ext cx="118080" cy="1674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0" y="320"/>
                  </a:moveTo>
                  <a:cubicBezTo>
                    <a:pt x="32" y="264"/>
                    <a:pt x="64" y="208"/>
                    <a:pt x="96" y="224"/>
                  </a:cubicBezTo>
                  <a:cubicBezTo>
                    <a:pt x="128" y="240"/>
                    <a:pt x="160" y="432"/>
                    <a:pt x="192" y="416"/>
                  </a:cubicBezTo>
                  <a:cubicBezTo>
                    <a:pt x="224" y="400"/>
                    <a:pt x="256" y="112"/>
                    <a:pt x="288" y="128"/>
                  </a:cubicBezTo>
                  <a:cubicBezTo>
                    <a:pt x="320" y="144"/>
                    <a:pt x="352" y="528"/>
                    <a:pt x="384" y="512"/>
                  </a:cubicBezTo>
                  <a:cubicBezTo>
                    <a:pt x="416" y="496"/>
                    <a:pt x="456" y="64"/>
                    <a:pt x="480" y="32"/>
                  </a:cubicBezTo>
                  <a:cubicBezTo>
                    <a:pt x="504" y="0"/>
                    <a:pt x="516" y="160"/>
                    <a:pt x="528" y="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2442240" y="2152440"/>
              <a:ext cx="118440" cy="1674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0" y="320"/>
                  </a:moveTo>
                  <a:cubicBezTo>
                    <a:pt x="32" y="264"/>
                    <a:pt x="64" y="208"/>
                    <a:pt x="96" y="224"/>
                  </a:cubicBezTo>
                  <a:cubicBezTo>
                    <a:pt x="128" y="240"/>
                    <a:pt x="160" y="432"/>
                    <a:pt x="192" y="416"/>
                  </a:cubicBezTo>
                  <a:cubicBezTo>
                    <a:pt x="224" y="400"/>
                    <a:pt x="256" y="112"/>
                    <a:pt x="288" y="128"/>
                  </a:cubicBezTo>
                  <a:cubicBezTo>
                    <a:pt x="320" y="144"/>
                    <a:pt x="352" y="528"/>
                    <a:pt x="384" y="512"/>
                  </a:cubicBezTo>
                  <a:cubicBezTo>
                    <a:pt x="416" y="496"/>
                    <a:pt x="456" y="64"/>
                    <a:pt x="480" y="32"/>
                  </a:cubicBezTo>
                  <a:cubicBezTo>
                    <a:pt x="504" y="0"/>
                    <a:pt x="516" y="160"/>
                    <a:pt x="528" y="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97160" y="221940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423120" y="2117880"/>
            <a:ext cx="293760" cy="202320"/>
            <a:chOff x="6423120" y="2117880"/>
            <a:chExt cx="293760" cy="202320"/>
          </a:xfrm>
        </p:grpSpPr>
        <p:sp>
          <p:nvSpPr>
            <p:cNvPr id="106" name=""/>
            <p:cNvSpPr/>
            <p:nvPr/>
          </p:nvSpPr>
          <p:spPr>
            <a:xfrm>
              <a:off x="6450840" y="2117880"/>
              <a:ext cx="119160" cy="1674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0" y="320"/>
                  </a:moveTo>
                  <a:cubicBezTo>
                    <a:pt x="32" y="264"/>
                    <a:pt x="64" y="208"/>
                    <a:pt x="96" y="224"/>
                  </a:cubicBezTo>
                  <a:cubicBezTo>
                    <a:pt x="128" y="240"/>
                    <a:pt x="160" y="432"/>
                    <a:pt x="192" y="416"/>
                  </a:cubicBezTo>
                  <a:cubicBezTo>
                    <a:pt x="224" y="400"/>
                    <a:pt x="256" y="112"/>
                    <a:pt x="288" y="128"/>
                  </a:cubicBezTo>
                  <a:cubicBezTo>
                    <a:pt x="320" y="144"/>
                    <a:pt x="352" y="528"/>
                    <a:pt x="384" y="512"/>
                  </a:cubicBezTo>
                  <a:cubicBezTo>
                    <a:pt x="416" y="496"/>
                    <a:pt x="456" y="64"/>
                    <a:pt x="480" y="32"/>
                  </a:cubicBezTo>
                  <a:cubicBezTo>
                    <a:pt x="504" y="0"/>
                    <a:pt x="516" y="160"/>
                    <a:pt x="528" y="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6569280" y="2152440"/>
              <a:ext cx="119160" cy="1674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0" y="320"/>
                  </a:moveTo>
                  <a:cubicBezTo>
                    <a:pt x="32" y="264"/>
                    <a:pt x="64" y="208"/>
                    <a:pt x="96" y="224"/>
                  </a:cubicBezTo>
                  <a:cubicBezTo>
                    <a:pt x="128" y="240"/>
                    <a:pt x="160" y="432"/>
                    <a:pt x="192" y="416"/>
                  </a:cubicBezTo>
                  <a:cubicBezTo>
                    <a:pt x="224" y="400"/>
                    <a:pt x="256" y="112"/>
                    <a:pt x="288" y="128"/>
                  </a:cubicBezTo>
                  <a:cubicBezTo>
                    <a:pt x="320" y="144"/>
                    <a:pt x="352" y="528"/>
                    <a:pt x="384" y="512"/>
                  </a:cubicBezTo>
                  <a:cubicBezTo>
                    <a:pt x="416" y="496"/>
                    <a:pt x="456" y="64"/>
                    <a:pt x="480" y="32"/>
                  </a:cubicBezTo>
                  <a:cubicBezTo>
                    <a:pt x="504" y="0"/>
                    <a:pt x="516" y="160"/>
                    <a:pt x="528" y="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23120" y="2219400"/>
              <a:ext cx="29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"/>
          <p:cNvSpPr/>
          <p:nvPr/>
        </p:nvSpPr>
        <p:spPr>
          <a:xfrm flipV="1">
            <a:off x="2625840" y="4731840"/>
            <a:ext cx="1272960" cy="311400"/>
          </a:xfrm>
          <a:prstGeom prst="line">
            <a:avLst/>
          </a:prstGeom>
          <a:ln w="648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679840" y="5246640"/>
            <a:ext cx="1230120" cy="225360"/>
          </a:xfrm>
          <a:prstGeom prst="line">
            <a:avLst/>
          </a:prstGeom>
          <a:ln w="648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149640" y="2184120"/>
            <a:ext cx="2584440" cy="4680"/>
          </a:xfrm>
          <a:prstGeom prst="line">
            <a:avLst/>
          </a:prstGeom>
          <a:ln w="648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51360" y="5268600"/>
            <a:ext cx="1336680" cy="253800"/>
          </a:xfrm>
          <a:prstGeom prst="line">
            <a:avLst/>
          </a:prstGeom>
          <a:ln w="648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795920" y="4799160"/>
            <a:ext cx="1311120" cy="325440"/>
          </a:xfrm>
          <a:prstGeom prst="line">
            <a:avLst/>
          </a:prstGeom>
          <a:ln w="648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2955960" y="458316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2958120" y="5307120"/>
            <a:ext cx="3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1"/>
          <a:srcRect l="11748" t="9575" r="11748" b="9575"/>
          <a:stretch/>
        </p:blipFill>
        <p:spPr>
          <a:xfrm>
            <a:off x="884160" y="4879800"/>
            <a:ext cx="563760" cy="606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2"/>
          <a:srcRect l="11748" t="9575" r="11748" b="9575"/>
          <a:stretch/>
        </p:blipFill>
        <p:spPr>
          <a:xfrm>
            <a:off x="7610400" y="4879800"/>
            <a:ext cx="563760" cy="606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rot="5400000">
            <a:off x="4152600" y="1714320"/>
            <a:ext cx="762120" cy="3733920"/>
          </a:xfrm>
          <a:custGeom>
            <a:avLst/>
            <a:gdLst>
              <a:gd name="textAreaLeft" fmla="*/ 118800 w 762120"/>
              <a:gd name="textAreaRight" fmla="*/ 667080 w 762120"/>
              <a:gd name="textAreaTop" fmla="*/ 933480 h 3733920"/>
              <a:gd name="textAreaBottom" fmla="*/ 2800440 h 3733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eecffe"/>
              </a:gs>
              <a:gs pos="100000">
                <a:srgbClr val="cc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3"/>
          <a:stretch/>
        </p:blipFill>
        <p:spPr>
          <a:xfrm>
            <a:off x="914400" y="1898640"/>
            <a:ext cx="282600" cy="295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4"/>
          <a:stretch/>
        </p:blipFill>
        <p:spPr>
          <a:xfrm>
            <a:off x="8001000" y="1898640"/>
            <a:ext cx="282600" cy="295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5"/>
          <a:stretch/>
        </p:blipFill>
        <p:spPr>
          <a:xfrm>
            <a:off x="509760" y="5029200"/>
            <a:ext cx="282240" cy="295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6"/>
          <a:stretch/>
        </p:blipFill>
        <p:spPr>
          <a:xfrm>
            <a:off x="8296200" y="5048280"/>
            <a:ext cx="282600" cy="295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51160" y="3352680"/>
            <a:ext cx="6166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94949"/>
                </a:solidFill>
                <a:latin typeface="Arial"/>
              </a:rPr>
              <a:t>Voice is transported  over Internet with compression of Audio data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173160" y="108000"/>
            <a:ext cx="187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VoIP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1066680"/>
            <a:ext cx="8153280" cy="1981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4152960"/>
            <a:ext cx="8153280" cy="213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418680" y="677880"/>
            <a:ext cx="5140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ices are located everywhere, cost grows heavier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884320" y="1260360"/>
            <a:ext cx="1043280" cy="517680"/>
          </a:xfrm>
          <a:custGeom>
            <a:avLst/>
            <a:gdLst/>
            <a:ahLst/>
            <a:rect l="l" t="t" r="r" b="b"/>
            <a:pathLst>
              <a:path w="977" h="230">
                <a:moveTo>
                  <a:pt x="0" y="134"/>
                </a:moveTo>
                <a:lnTo>
                  <a:pt x="459" y="134"/>
                </a:lnTo>
                <a:lnTo>
                  <a:pt x="511" y="0"/>
                </a:lnTo>
                <a:lnTo>
                  <a:pt x="511" y="230"/>
                </a:lnTo>
                <a:lnTo>
                  <a:pt x="563" y="126"/>
                </a:lnTo>
                <a:lnTo>
                  <a:pt x="977" y="1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4975200" y="1225440"/>
            <a:ext cx="1052640" cy="517680"/>
          </a:xfrm>
          <a:custGeom>
            <a:avLst/>
            <a:gdLst/>
            <a:ahLst/>
            <a:rect l="l" t="t" r="r" b="b"/>
            <a:pathLst>
              <a:path w="977" h="230">
                <a:moveTo>
                  <a:pt x="0" y="134"/>
                </a:moveTo>
                <a:lnTo>
                  <a:pt x="459" y="134"/>
                </a:lnTo>
                <a:lnTo>
                  <a:pt x="511" y="0"/>
                </a:lnTo>
                <a:lnTo>
                  <a:pt x="511" y="230"/>
                </a:lnTo>
                <a:lnTo>
                  <a:pt x="563" y="126"/>
                </a:lnTo>
                <a:lnTo>
                  <a:pt x="977" y="1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2925720" y="2212920"/>
            <a:ext cx="1054080" cy="517680"/>
          </a:xfrm>
          <a:custGeom>
            <a:avLst/>
            <a:gdLst/>
            <a:ahLst/>
            <a:rect l="l" t="t" r="r" b="b"/>
            <a:pathLst>
              <a:path w="977" h="230">
                <a:moveTo>
                  <a:pt x="0" y="134"/>
                </a:moveTo>
                <a:lnTo>
                  <a:pt x="459" y="134"/>
                </a:lnTo>
                <a:lnTo>
                  <a:pt x="511" y="0"/>
                </a:lnTo>
                <a:lnTo>
                  <a:pt x="511" y="230"/>
                </a:lnTo>
                <a:lnTo>
                  <a:pt x="563" y="126"/>
                </a:lnTo>
                <a:lnTo>
                  <a:pt x="977" y="1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5041800" y="2212920"/>
            <a:ext cx="1019160" cy="517680"/>
          </a:xfrm>
          <a:custGeom>
            <a:avLst/>
            <a:gdLst/>
            <a:ahLst/>
            <a:rect l="l" t="t" r="r" b="b"/>
            <a:pathLst>
              <a:path w="977" h="230">
                <a:moveTo>
                  <a:pt x="0" y="134"/>
                </a:moveTo>
                <a:lnTo>
                  <a:pt x="459" y="134"/>
                </a:lnTo>
                <a:lnTo>
                  <a:pt x="511" y="0"/>
                </a:lnTo>
                <a:lnTo>
                  <a:pt x="511" y="230"/>
                </a:lnTo>
                <a:lnTo>
                  <a:pt x="563" y="126"/>
                </a:lnTo>
                <a:lnTo>
                  <a:pt x="977" y="1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951360" y="2128680"/>
            <a:ext cx="1130040" cy="717480"/>
            <a:chOff x="3951360" y="2128680"/>
            <a:chExt cx="1130040" cy="717480"/>
          </a:xfrm>
        </p:grpSpPr>
        <p:grpSp>
          <p:nvGrpSpPr>
            <p:cNvPr id="133" name=""/>
            <p:cNvGrpSpPr/>
            <p:nvPr/>
          </p:nvGrpSpPr>
          <p:grpSpPr>
            <a:xfrm>
              <a:off x="3951360" y="2128680"/>
              <a:ext cx="1130040" cy="717480"/>
              <a:chOff x="3951360" y="2128680"/>
              <a:chExt cx="1130040" cy="717480"/>
            </a:xfrm>
          </p:grpSpPr>
          <p:sp>
            <p:nvSpPr>
              <p:cNvPr id="134" name=""/>
              <p:cNvSpPr/>
              <p:nvPr/>
            </p:nvSpPr>
            <p:spPr>
              <a:xfrm>
                <a:off x="4309560" y="2128680"/>
                <a:ext cx="505440" cy="45216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01120" y="2261880"/>
                <a:ext cx="369000" cy="26568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951360" y="2420640"/>
                <a:ext cx="268920" cy="21276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03640" y="2460600"/>
                <a:ext cx="421200" cy="34632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637880" y="2288520"/>
                <a:ext cx="443520" cy="31860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18200" y="2395440"/>
                <a:ext cx="579600" cy="45072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45880" y="2556360"/>
                <a:ext cx="304920" cy="21276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011840" y="2607120"/>
                <a:ext cx="148680" cy="10584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320360" y="2141640"/>
              <a:ext cx="479520" cy="43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22360" y="2270880"/>
              <a:ext cx="350640" cy="255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79800" y="2423880"/>
              <a:ext cx="254880" cy="2052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24880" y="2461320"/>
              <a:ext cx="399960" cy="334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31760" y="2296080"/>
              <a:ext cx="421560" cy="306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28280" y="2398680"/>
              <a:ext cx="550080" cy="435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33280" y="2554200"/>
              <a:ext cx="289800" cy="204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38120" y="2602800"/>
              <a:ext cx="141120" cy="102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894120" y="1200240"/>
            <a:ext cx="1130040" cy="655560"/>
            <a:chOff x="3894120" y="1200240"/>
            <a:chExt cx="1130040" cy="655560"/>
          </a:xfrm>
        </p:grpSpPr>
        <p:grpSp>
          <p:nvGrpSpPr>
            <p:cNvPr id="151" name=""/>
            <p:cNvGrpSpPr/>
            <p:nvPr/>
          </p:nvGrpSpPr>
          <p:grpSpPr>
            <a:xfrm>
              <a:off x="3894120" y="1200240"/>
              <a:ext cx="1130040" cy="655560"/>
              <a:chOff x="3894120" y="1200240"/>
              <a:chExt cx="1130040" cy="655560"/>
            </a:xfrm>
          </p:grpSpPr>
          <p:sp>
            <p:nvSpPr>
              <p:cNvPr id="152" name=""/>
              <p:cNvSpPr/>
              <p:nvPr/>
            </p:nvSpPr>
            <p:spPr>
              <a:xfrm>
                <a:off x="4252320" y="1200240"/>
                <a:ext cx="505440" cy="41292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43880" y="1321920"/>
                <a:ext cx="369000" cy="24264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894120" y="1467000"/>
                <a:ext cx="268920" cy="19440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46400" y="1503360"/>
                <a:ext cx="421200" cy="31608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80640" y="1346040"/>
                <a:ext cx="443520" cy="29088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260960" y="1443960"/>
                <a:ext cx="579600" cy="41184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88640" y="1590840"/>
                <a:ext cx="304920" cy="19440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54600" y="1637280"/>
                <a:ext cx="148680" cy="9684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263120" y="1212120"/>
              <a:ext cx="479520" cy="39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65120" y="1330200"/>
              <a:ext cx="350640" cy="233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2560" y="1469880"/>
              <a:ext cx="254880" cy="1875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67640" y="1504080"/>
              <a:ext cx="399960" cy="30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4520" y="1353240"/>
              <a:ext cx="421560" cy="28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71040" y="1446840"/>
              <a:ext cx="550080" cy="397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76040" y="1589040"/>
              <a:ext cx="289800" cy="1872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80880" y="1633320"/>
              <a:ext cx="141120" cy="93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4161960" y="2347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093200" y="140184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Vo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17840" y="1179360"/>
            <a:ext cx="350640" cy="741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491200" y="187812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917720" y="1546200"/>
            <a:ext cx="60948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1464480" y="164628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Vo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522440" y="2232000"/>
            <a:ext cx="380880" cy="527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120080" y="2197080"/>
            <a:ext cx="380880" cy="527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10120" y="2725560"/>
            <a:ext cx="12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Data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1101600" y="2725560"/>
            <a:ext cx="12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Data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045120" y="1143000"/>
            <a:ext cx="351000" cy="741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020280" y="183996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405480" y="1509840"/>
            <a:ext cx="60984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851520" y="159696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Vo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2522520" y="2355840"/>
            <a:ext cx="433440" cy="343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060960" y="2330280"/>
            <a:ext cx="433440" cy="343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flipV="1">
            <a:off x="1909800" y="2502000"/>
            <a:ext cx="60948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500880" y="2490840"/>
            <a:ext cx="60948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336600" y="3716280"/>
            <a:ext cx="726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IP LAN / WAN grown rapidly, and Ethernet network is everywher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765000" y="4670280"/>
            <a:ext cx="169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178080" y="4761000"/>
            <a:ext cx="693720" cy="387360"/>
          </a:xfrm>
          <a:custGeom>
            <a:avLst/>
            <a:gdLst/>
            <a:ahLst/>
            <a:rect l="l" t="t" r="r" b="b"/>
            <a:pathLst>
              <a:path w="977" h="230">
                <a:moveTo>
                  <a:pt x="0" y="134"/>
                </a:moveTo>
                <a:lnTo>
                  <a:pt x="459" y="134"/>
                </a:lnTo>
                <a:lnTo>
                  <a:pt x="511" y="0"/>
                </a:lnTo>
                <a:lnTo>
                  <a:pt x="511" y="230"/>
                </a:lnTo>
                <a:lnTo>
                  <a:pt x="563" y="126"/>
                </a:lnTo>
                <a:lnTo>
                  <a:pt x="977" y="1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5229360" y="4761000"/>
            <a:ext cx="660240" cy="387360"/>
          </a:xfrm>
          <a:custGeom>
            <a:avLst/>
            <a:gdLst/>
            <a:ahLst/>
            <a:rect l="l" t="t" r="r" b="b"/>
            <a:pathLst>
              <a:path w="977" h="230">
                <a:moveTo>
                  <a:pt x="0" y="134"/>
                </a:moveTo>
                <a:lnTo>
                  <a:pt x="459" y="134"/>
                </a:lnTo>
                <a:lnTo>
                  <a:pt x="511" y="0"/>
                </a:lnTo>
                <a:lnTo>
                  <a:pt x="511" y="230"/>
                </a:lnTo>
                <a:lnTo>
                  <a:pt x="563" y="126"/>
                </a:lnTo>
                <a:lnTo>
                  <a:pt x="977" y="1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70360" y="4495680"/>
            <a:ext cx="1380600" cy="904680"/>
            <a:chOff x="3870360" y="4495680"/>
            <a:chExt cx="1380600" cy="904680"/>
          </a:xfrm>
        </p:grpSpPr>
        <p:grpSp>
          <p:nvGrpSpPr>
            <p:cNvPr id="191" name=""/>
            <p:cNvGrpSpPr/>
            <p:nvPr/>
          </p:nvGrpSpPr>
          <p:grpSpPr>
            <a:xfrm>
              <a:off x="3870360" y="4495680"/>
              <a:ext cx="1380600" cy="904680"/>
              <a:chOff x="3870360" y="4495680"/>
              <a:chExt cx="1380600" cy="904680"/>
            </a:xfrm>
          </p:grpSpPr>
          <p:sp>
            <p:nvSpPr>
              <p:cNvPr id="192" name=""/>
              <p:cNvSpPr/>
              <p:nvPr/>
            </p:nvSpPr>
            <p:spPr>
              <a:xfrm>
                <a:off x="4308120" y="4495680"/>
                <a:ext cx="617400" cy="56988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053600" y="4663440"/>
                <a:ext cx="451080" cy="33516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870360" y="4863960"/>
                <a:ext cx="328320" cy="26820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56480" y="4914000"/>
                <a:ext cx="514440" cy="43668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709160" y="4696920"/>
                <a:ext cx="541800" cy="40176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318560" y="4831920"/>
                <a:ext cx="708120" cy="56844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40920" y="5034960"/>
                <a:ext cx="372240" cy="26820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944520" y="5098680"/>
                <a:ext cx="181800" cy="13356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4321440" y="4512240"/>
              <a:ext cx="586080" cy="549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79160" y="4674960"/>
              <a:ext cx="428400" cy="3225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05280" y="4867920"/>
              <a:ext cx="311760" cy="258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82400" y="4915080"/>
              <a:ext cx="488880" cy="4215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01600" y="4706640"/>
              <a:ext cx="514800" cy="386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30800" y="4836240"/>
              <a:ext cx="672120" cy="549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25800" y="5032080"/>
              <a:ext cx="354240" cy="258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76200" y="5093280"/>
              <a:ext cx="172440" cy="129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f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527040" y="4968720"/>
            <a:ext cx="12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Data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600200" y="5183280"/>
            <a:ext cx="1309680" cy="590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1293840" y="4734000"/>
            <a:ext cx="1525680" cy="218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4187160" y="4753080"/>
            <a:ext cx="78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Vo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&amp; 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5011560"/>
            <a:ext cx="944280" cy="70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905040" y="4443480"/>
            <a:ext cx="380880" cy="5270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flipV="1">
            <a:off x="833400" y="5626080"/>
            <a:ext cx="42552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7385040" y="4402080"/>
            <a:ext cx="380880" cy="5270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061040" y="4905360"/>
            <a:ext cx="12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Data Syste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265440" y="4681440"/>
            <a:ext cx="1127160" cy="195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2781360" y="4896000"/>
            <a:ext cx="434880" cy="3427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 flipV="1">
            <a:off x="7577280" y="5699160"/>
            <a:ext cx="42516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0"/>
          <a:stretch/>
        </p:blipFill>
        <p:spPr>
          <a:xfrm>
            <a:off x="5886360" y="4797360"/>
            <a:ext cx="435240" cy="343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197360" y="59436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7175880" y="59436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418320" y="571500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Vo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841160" y="579132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Vo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1"/>
          <a:srcRect l="11748" t="9575" r="11748" b="9575"/>
          <a:stretch/>
        </p:blipFill>
        <p:spPr>
          <a:xfrm>
            <a:off x="1295280" y="5549760"/>
            <a:ext cx="328680" cy="3542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2"/>
          <a:srcRect l="11748" t="9575" r="11748" b="9575"/>
          <a:stretch/>
        </p:blipFill>
        <p:spPr>
          <a:xfrm>
            <a:off x="7238880" y="5522760"/>
            <a:ext cx="328680" cy="354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5400000">
            <a:off x="4199400" y="2124360"/>
            <a:ext cx="592200" cy="2590920"/>
          </a:xfrm>
          <a:custGeom>
            <a:avLst/>
            <a:gdLst>
              <a:gd name="textAreaLeft" fmla="*/ 92520 w 592200"/>
              <a:gd name="textAreaRight" fmla="*/ 460080 w 592200"/>
              <a:gd name="textAreaTop" fmla="*/ 645840 h 2590920"/>
              <a:gd name="textAreaBottom" fmla="*/ 1945080 h 2590920"/>
            </a:gdLst>
            <a:ahLst/>
            <a:rect l="textAreaLeft" t="textAreaTop" r="textAreaRight" b="textAreaBottom"/>
            <a:pathLst>
              <a:path w="21600" h="21600">
                <a:moveTo>
                  <a:pt x="3375" y="5386"/>
                </a:moveTo>
                <a:lnTo>
                  <a:pt x="11987" y="5386"/>
                </a:lnTo>
                <a:lnTo>
                  <a:pt x="11987" y="0"/>
                </a:lnTo>
                <a:lnTo>
                  <a:pt x="21600" y="10800"/>
                </a:lnTo>
                <a:lnTo>
                  <a:pt x="11987" y="21600"/>
                </a:lnTo>
                <a:lnTo>
                  <a:pt x="11987" y="16214"/>
                </a:lnTo>
                <a:lnTo>
                  <a:pt x="3375" y="16214"/>
                </a:lnTo>
                <a:close/>
              </a:path>
              <a:path w="21600" h="21600">
                <a:moveTo>
                  <a:pt x="0" y="5386"/>
                </a:moveTo>
                <a:lnTo>
                  <a:pt x="675" y="5386"/>
                </a:lnTo>
                <a:lnTo>
                  <a:pt x="675" y="16214"/>
                </a:lnTo>
                <a:lnTo>
                  <a:pt x="0" y="16214"/>
                </a:lnTo>
                <a:close/>
              </a:path>
              <a:path w="21600" h="21600">
                <a:moveTo>
                  <a:pt x="1350" y="5386"/>
                </a:moveTo>
                <a:lnTo>
                  <a:pt x="2700" y="5386"/>
                </a:lnTo>
                <a:lnTo>
                  <a:pt x="2700" y="16214"/>
                </a:lnTo>
                <a:lnTo>
                  <a:pt x="1350" y="16214"/>
                </a:lnTo>
                <a:close/>
              </a:path>
            </a:pathLst>
          </a:custGeom>
          <a:gradFill rotWithShape="0">
            <a:gsLst>
              <a:gs pos="0">
                <a:srgbClr val="eecffe"/>
              </a:gs>
              <a:gs pos="100000">
                <a:srgbClr val="cc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3"/>
          <a:srcRect l="30680" t="24288" r="29813" b="34742"/>
          <a:stretch/>
        </p:blipFill>
        <p:spPr>
          <a:xfrm>
            <a:off x="1523880" y="1371600"/>
            <a:ext cx="403200" cy="287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4"/>
          <a:srcRect l="30680" t="24288" r="29813" b="34742"/>
          <a:stretch/>
        </p:blipFill>
        <p:spPr>
          <a:xfrm>
            <a:off x="7010280" y="1314360"/>
            <a:ext cx="403200" cy="287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5"/>
          <a:srcRect l="30680" t="24288" r="29813" b="34742"/>
          <a:stretch/>
        </p:blipFill>
        <p:spPr>
          <a:xfrm>
            <a:off x="495360" y="5448240"/>
            <a:ext cx="40320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6"/>
          <a:srcRect l="30680" t="24288" r="29813" b="34742"/>
          <a:stretch/>
        </p:blipFill>
        <p:spPr>
          <a:xfrm>
            <a:off x="7981920" y="5543640"/>
            <a:ext cx="403200" cy="2872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71000" y="79200"/>
            <a:ext cx="285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 &amp; Benefi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national Standards Organization’s Open System Interconnection 7-layer Reference Model.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4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oIP standards define protocol messages and packet structure/content for each layer. 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3481560" y="6308640"/>
            <a:ext cx="35049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2968920" y="1736640"/>
            <a:ext cx="90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66ff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741320" y="2117880"/>
            <a:ext cx="6934320" cy="4267080"/>
            <a:chOff x="1741320" y="2117880"/>
            <a:chExt cx="6934320" cy="4267080"/>
          </a:xfrm>
        </p:grpSpPr>
        <p:sp>
          <p:nvSpPr>
            <p:cNvPr id="237" name=""/>
            <p:cNvSpPr/>
            <p:nvPr/>
          </p:nvSpPr>
          <p:spPr>
            <a:xfrm>
              <a:off x="2014920" y="3337200"/>
              <a:ext cx="919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99"/>
                  </a:solidFill>
                  <a:latin typeface="Arial"/>
                </a:rPr>
                <a:t>Sender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18960" y="3337200"/>
              <a:ext cx="10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99"/>
                  </a:solidFill>
                  <a:latin typeface="Arial"/>
                </a:rPr>
                <a:t>Receiver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41320" y="2117880"/>
              <a:ext cx="1905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41320" y="2727360"/>
              <a:ext cx="1905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sentation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41320" y="5775480"/>
              <a:ext cx="1905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41320" y="5166000"/>
              <a:ext cx="1905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41320" y="4556160"/>
              <a:ext cx="1905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41320" y="3337200"/>
              <a:ext cx="1905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ssion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41320" y="3946680"/>
              <a:ext cx="1905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70520" y="2117880"/>
              <a:ext cx="1905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70520" y="2727360"/>
              <a:ext cx="1905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sentation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70520" y="5775480"/>
              <a:ext cx="1905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70520" y="5166000"/>
              <a:ext cx="1905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70520" y="4556160"/>
              <a:ext cx="1905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70520" y="3337200"/>
              <a:ext cx="1905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ssion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70520" y="3946680"/>
              <a:ext cx="1905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55920" y="5775480"/>
              <a:ext cx="1905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55920" y="5166000"/>
              <a:ext cx="1905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55920" y="4556160"/>
              <a:ext cx="19051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46440" y="6004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61040" y="6004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46440" y="5394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46440" y="4784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61040" y="5394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61040" y="4784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46440" y="417528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46440" y="35658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46440" y="295596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46440" y="234648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51360" y="4403880"/>
              <a:ext cx="2514600" cy="19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6999120" y="1965240"/>
            <a:ext cx="0" cy="434340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3417840" y="2041560"/>
            <a:ext cx="0" cy="4267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220680" y="97920"/>
            <a:ext cx="1977840" cy="70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VoIP Concep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1044720" y="2276640"/>
            <a:ext cx="287280" cy="3671640"/>
          </a:xfrm>
          <a:custGeom>
            <a:avLst/>
            <a:gdLst>
              <a:gd name="textAreaLeft" fmla="*/ 84240 w 287280"/>
              <a:gd name="textAreaRight" fmla="*/ 287640 w 287280"/>
              <a:gd name="textAreaTop" fmla="*/ 153000 h 3671640"/>
              <a:gd name="textAreaBottom" fmla="*/ 351900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179280" y="2997360"/>
            <a:ext cx="134964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SI-7 lay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1143000" y="1498680"/>
            <a:ext cx="6019920" cy="3073320"/>
            <a:chOff x="1143000" y="1498680"/>
            <a:chExt cx="6019920" cy="3073320"/>
          </a:xfrm>
        </p:grpSpPr>
        <p:sp>
          <p:nvSpPr>
            <p:cNvPr id="273" name=""/>
            <p:cNvSpPr/>
            <p:nvPr/>
          </p:nvSpPr>
          <p:spPr>
            <a:xfrm>
              <a:off x="1143000" y="1952640"/>
              <a:ext cx="6019920" cy="419040"/>
            </a:xfrm>
            <a:prstGeom prst="rect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ffff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3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sent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Codec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43000" y="2390760"/>
              <a:ext cx="6019920" cy="419040"/>
            </a:xfrm>
            <a:prstGeom prst="rect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ffff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3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ssi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RTP, RTCP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43000" y="2828880"/>
              <a:ext cx="6019920" cy="419040"/>
            </a:xfrm>
            <a:prstGeom prst="rect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ffff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4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TCP &amp; UDP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43000" y="3267000"/>
              <a:ext cx="6019920" cy="419040"/>
            </a:xfrm>
            <a:prstGeom prst="rect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ffff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4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           IP, Diffserv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43000" y="3705120"/>
              <a:ext cx="6019920" cy="419040"/>
            </a:xfrm>
            <a:prstGeom prst="rect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ffff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4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Ethernet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43000" y="4152960"/>
              <a:ext cx="6019920" cy="419040"/>
            </a:xfrm>
            <a:prstGeom prst="rect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ffff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5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UTP Cat 5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43000" y="1498680"/>
              <a:ext cx="6019920" cy="419040"/>
            </a:xfrm>
            <a:prstGeom prst="rect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fffff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</a:rPr>
                <a:t>           Interactive Voice (VoIP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Defines functional layers needed for communication between 2 or more network end-point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296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296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296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296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296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296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296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296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296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296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296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Several VoIP standards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857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00"/>
                </a:solidFill>
                <a:latin typeface="Arial"/>
              </a:rPr>
              <a:t>IEEE developed </a:t>
            </a:r>
            <a:r>
              <a:rPr b="1" i="1" lang="ko-KR" sz="1600" spc="-1" strike="noStrike">
                <a:solidFill>
                  <a:srgbClr val="000000"/>
                </a:solidFill>
                <a:latin typeface="Arial"/>
              </a:rPr>
              <a:t>H.32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857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00"/>
                </a:solidFill>
                <a:latin typeface="Arial"/>
              </a:rPr>
              <a:t>IETF developed </a:t>
            </a:r>
            <a:r>
              <a:rPr b="1" i="1" lang="ko-KR" sz="1600" spc="-1" strike="noStrike">
                <a:solidFill>
                  <a:srgbClr val="000000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857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00"/>
                </a:solidFill>
                <a:latin typeface="Arial"/>
              </a:rPr>
              <a:t>MGCP used by DOCSIS (Cable TV), disassociated Gatew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857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00"/>
                </a:solidFill>
                <a:latin typeface="Arial"/>
              </a:rPr>
              <a:t>IEEE/IETF Megaco/H.248 IETF/IEEE disassociated Gatew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220680" y="97920"/>
            <a:ext cx="1977840" cy="70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VoIP Concep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ultimedia communication(audio, data &amp; video) over an unreliable network, aimed at IP and UDP.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plication Layer control protocol.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 umbrella standard employs many other protocols by reference and Annex.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44680" y="2508120"/>
            <a:ext cx="3307320" cy="395280"/>
            <a:chOff x="544680" y="2508120"/>
            <a:chExt cx="3307320" cy="395280"/>
          </a:xfrm>
        </p:grpSpPr>
        <p:sp>
          <p:nvSpPr>
            <p:cNvPr id="284" name=""/>
            <p:cNvSpPr/>
            <p:nvPr/>
          </p:nvSpPr>
          <p:spPr>
            <a:xfrm>
              <a:off x="544680" y="2508120"/>
              <a:ext cx="3307320" cy="3952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544680" y="2508120"/>
              <a:ext cx="3306600" cy="395280"/>
              <a:chOff x="544680" y="2508120"/>
              <a:chExt cx="3306600" cy="395280"/>
            </a:xfrm>
          </p:grpSpPr>
          <p:sp>
            <p:nvSpPr>
              <p:cNvPr id="286" name=""/>
              <p:cNvSpPr/>
              <p:nvPr/>
            </p:nvSpPr>
            <p:spPr>
              <a:xfrm>
                <a:off x="684360" y="2508120"/>
                <a:ext cx="3026160" cy="39528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굴림"/>
                    <a:ea typeface="바탕체"/>
                  </a:rPr>
                  <a:t>Feature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44680" y="2508120"/>
                <a:ext cx="3306600" cy="395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852720" y="2508120"/>
            <a:ext cx="4822200" cy="395280"/>
            <a:chOff x="3852720" y="2508120"/>
            <a:chExt cx="4822200" cy="395280"/>
          </a:xfrm>
        </p:grpSpPr>
        <p:sp>
          <p:nvSpPr>
            <p:cNvPr id="289" name=""/>
            <p:cNvSpPr/>
            <p:nvPr/>
          </p:nvSpPr>
          <p:spPr>
            <a:xfrm>
              <a:off x="3852720" y="2508120"/>
              <a:ext cx="4822200" cy="3952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3852720" y="2508120"/>
              <a:ext cx="4821480" cy="395280"/>
              <a:chOff x="3852720" y="2508120"/>
              <a:chExt cx="4821480" cy="395280"/>
            </a:xfrm>
          </p:grpSpPr>
          <p:sp>
            <p:nvSpPr>
              <p:cNvPr id="291" name=""/>
              <p:cNvSpPr/>
              <p:nvPr/>
            </p:nvSpPr>
            <p:spPr>
              <a:xfrm>
                <a:off x="3992400" y="2508120"/>
                <a:ext cx="4541040" cy="39528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굴림"/>
                    <a:ea typeface="바탕체"/>
                  </a:rPr>
                  <a:t>Protocol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852720" y="2508120"/>
                <a:ext cx="4821480" cy="395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544680" y="2903400"/>
            <a:ext cx="3307320" cy="397080"/>
            <a:chOff x="544680" y="2903400"/>
            <a:chExt cx="3307320" cy="397080"/>
          </a:xfrm>
        </p:grpSpPr>
        <p:sp>
          <p:nvSpPr>
            <p:cNvPr id="294" name=""/>
            <p:cNvSpPr/>
            <p:nvPr/>
          </p:nvSpPr>
          <p:spPr>
            <a:xfrm>
              <a:off x="684360" y="2903400"/>
              <a:ext cx="3026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바탕체"/>
                </a:rPr>
                <a:t>Call Signaling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4680" y="2903400"/>
              <a:ext cx="3307320" cy="3970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852720" y="2903400"/>
            <a:ext cx="4822200" cy="397080"/>
            <a:chOff x="3852720" y="2903400"/>
            <a:chExt cx="4822200" cy="397080"/>
          </a:xfrm>
        </p:grpSpPr>
        <p:sp>
          <p:nvSpPr>
            <p:cNvPr id="297" name=""/>
            <p:cNvSpPr/>
            <p:nvPr/>
          </p:nvSpPr>
          <p:spPr>
            <a:xfrm>
              <a:off x="3992400" y="2903400"/>
              <a:ext cx="4541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바탕체"/>
                </a:rPr>
                <a:t>H.225 (Q.931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52720" y="2903400"/>
              <a:ext cx="4822200" cy="3970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44680" y="3300480"/>
            <a:ext cx="3307320" cy="393480"/>
            <a:chOff x="544680" y="3300480"/>
            <a:chExt cx="3307320" cy="393480"/>
          </a:xfrm>
        </p:grpSpPr>
        <p:sp>
          <p:nvSpPr>
            <p:cNvPr id="300" name=""/>
            <p:cNvSpPr/>
            <p:nvPr/>
          </p:nvSpPr>
          <p:spPr>
            <a:xfrm>
              <a:off x="684360" y="3300480"/>
              <a:ext cx="30268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바탕체"/>
                </a:rPr>
                <a:t>Media Contr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4680" y="3300480"/>
              <a:ext cx="3307320" cy="393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852720" y="3300480"/>
            <a:ext cx="4822200" cy="393480"/>
            <a:chOff x="3852720" y="3300480"/>
            <a:chExt cx="4822200" cy="393480"/>
          </a:xfrm>
        </p:grpSpPr>
        <p:sp>
          <p:nvSpPr>
            <p:cNvPr id="303" name=""/>
            <p:cNvSpPr/>
            <p:nvPr/>
          </p:nvSpPr>
          <p:spPr>
            <a:xfrm>
              <a:off x="3992400" y="3300480"/>
              <a:ext cx="4541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바탕체"/>
                </a:rPr>
                <a:t>H.245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52720" y="3300480"/>
              <a:ext cx="4822200" cy="393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44680" y="3693960"/>
            <a:ext cx="3307320" cy="495360"/>
            <a:chOff x="544680" y="3693960"/>
            <a:chExt cx="3307320" cy="495360"/>
          </a:xfrm>
        </p:grpSpPr>
        <p:sp>
          <p:nvSpPr>
            <p:cNvPr id="306" name=""/>
            <p:cNvSpPr/>
            <p:nvPr/>
          </p:nvSpPr>
          <p:spPr>
            <a:xfrm>
              <a:off x="684360" y="3693960"/>
              <a:ext cx="302688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"/>
                  <a:ea typeface="바탕체"/>
                </a:rPr>
                <a:t>Audio Codec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4680" y="3693960"/>
              <a:ext cx="3307320" cy="4953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852720" y="3693960"/>
            <a:ext cx="4822200" cy="495360"/>
            <a:chOff x="3852720" y="3693960"/>
            <a:chExt cx="4822200" cy="495360"/>
          </a:xfrm>
        </p:grpSpPr>
        <p:sp>
          <p:nvSpPr>
            <p:cNvPr id="309" name=""/>
            <p:cNvSpPr/>
            <p:nvPr/>
          </p:nvSpPr>
          <p:spPr>
            <a:xfrm>
              <a:off x="3992400" y="3693960"/>
              <a:ext cx="45417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바탕체"/>
                </a:rPr>
                <a:t>G.711, G.723, G.729A, G.729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52720" y="3693960"/>
              <a:ext cx="4822200" cy="4953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44680" y="4189320"/>
            <a:ext cx="3307320" cy="395280"/>
            <a:chOff x="544680" y="4189320"/>
            <a:chExt cx="3307320" cy="395280"/>
          </a:xfrm>
        </p:grpSpPr>
        <p:sp>
          <p:nvSpPr>
            <p:cNvPr id="312" name=""/>
            <p:cNvSpPr/>
            <p:nvPr/>
          </p:nvSpPr>
          <p:spPr>
            <a:xfrm>
              <a:off x="684360" y="4189320"/>
              <a:ext cx="30268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"/>
                  <a:ea typeface="바탕체"/>
                </a:rPr>
                <a:t>Video Codec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4680" y="4189320"/>
              <a:ext cx="3307320" cy="395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852720" y="4189320"/>
            <a:ext cx="4822200" cy="395280"/>
            <a:chOff x="3852720" y="4189320"/>
            <a:chExt cx="4822200" cy="395280"/>
          </a:xfrm>
        </p:grpSpPr>
        <p:sp>
          <p:nvSpPr>
            <p:cNvPr id="315" name=""/>
            <p:cNvSpPr/>
            <p:nvPr/>
          </p:nvSpPr>
          <p:spPr>
            <a:xfrm>
              <a:off x="3992400" y="4189320"/>
              <a:ext cx="4541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바탕체"/>
                </a:rPr>
                <a:t>H.261, H.26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52720" y="4189320"/>
              <a:ext cx="4822200" cy="395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44680" y="4584600"/>
            <a:ext cx="3307320" cy="395280"/>
            <a:chOff x="544680" y="4584600"/>
            <a:chExt cx="3307320" cy="395280"/>
          </a:xfrm>
        </p:grpSpPr>
        <p:sp>
          <p:nvSpPr>
            <p:cNvPr id="318" name=""/>
            <p:cNvSpPr/>
            <p:nvPr/>
          </p:nvSpPr>
          <p:spPr>
            <a:xfrm>
              <a:off x="684360" y="4584600"/>
              <a:ext cx="30268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바탕체"/>
                </a:rPr>
                <a:t>FAX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4680" y="4584600"/>
              <a:ext cx="3307320" cy="395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852720" y="4584600"/>
            <a:ext cx="4822200" cy="395280"/>
            <a:chOff x="3852720" y="4584600"/>
            <a:chExt cx="4822200" cy="395280"/>
          </a:xfrm>
        </p:grpSpPr>
        <p:sp>
          <p:nvSpPr>
            <p:cNvPr id="321" name=""/>
            <p:cNvSpPr/>
            <p:nvPr/>
          </p:nvSpPr>
          <p:spPr>
            <a:xfrm>
              <a:off x="3992400" y="4584600"/>
              <a:ext cx="4541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바탕체"/>
                </a:rPr>
                <a:t>T.38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52720" y="4584600"/>
              <a:ext cx="4822200" cy="395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44680" y="4979880"/>
            <a:ext cx="3307320" cy="397080"/>
            <a:chOff x="544680" y="4979880"/>
            <a:chExt cx="3307320" cy="397080"/>
          </a:xfrm>
        </p:grpSpPr>
        <p:sp>
          <p:nvSpPr>
            <p:cNvPr id="324" name=""/>
            <p:cNvSpPr/>
            <p:nvPr/>
          </p:nvSpPr>
          <p:spPr>
            <a:xfrm>
              <a:off x="684360" y="4979880"/>
              <a:ext cx="3026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바탕체"/>
                </a:rPr>
                <a:t>Media Transport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4680" y="4979880"/>
              <a:ext cx="3307320" cy="3970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852720" y="4979880"/>
            <a:ext cx="4822200" cy="397080"/>
            <a:chOff x="3852720" y="4979880"/>
            <a:chExt cx="4822200" cy="397080"/>
          </a:xfrm>
        </p:grpSpPr>
        <p:sp>
          <p:nvSpPr>
            <p:cNvPr id="327" name=""/>
            <p:cNvSpPr/>
            <p:nvPr/>
          </p:nvSpPr>
          <p:spPr>
            <a:xfrm>
              <a:off x="3992400" y="4979880"/>
              <a:ext cx="4541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바탕체"/>
                </a:rPr>
                <a:t>RTP/RTC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52720" y="4979880"/>
              <a:ext cx="4822200" cy="3970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23800" y="2505240"/>
            <a:ext cx="8163000" cy="3657600"/>
          </a:xfrm>
          <a:prstGeom prst="rect">
            <a:avLst/>
          </a:prstGeom>
          <a:noFill/>
          <a:ln w="111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42880" y="5378400"/>
            <a:ext cx="3307680" cy="397080"/>
            <a:chOff x="542880" y="5378400"/>
            <a:chExt cx="3307680" cy="397080"/>
          </a:xfrm>
        </p:grpSpPr>
        <p:sp>
          <p:nvSpPr>
            <p:cNvPr id="331" name=""/>
            <p:cNvSpPr/>
            <p:nvPr/>
          </p:nvSpPr>
          <p:spPr>
            <a:xfrm>
              <a:off x="682560" y="5378400"/>
              <a:ext cx="3027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바탕체"/>
                </a:rPr>
                <a:t>Security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880" y="5378400"/>
              <a:ext cx="3307680" cy="3970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851280" y="5378400"/>
            <a:ext cx="4822200" cy="397080"/>
            <a:chOff x="3851280" y="5378400"/>
            <a:chExt cx="4822200" cy="397080"/>
          </a:xfrm>
        </p:grpSpPr>
        <p:sp>
          <p:nvSpPr>
            <p:cNvPr id="334" name=""/>
            <p:cNvSpPr/>
            <p:nvPr/>
          </p:nvSpPr>
          <p:spPr>
            <a:xfrm>
              <a:off x="3990960" y="5378400"/>
              <a:ext cx="4541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바탕체"/>
                </a:rPr>
                <a:t>H.235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51280" y="5378400"/>
              <a:ext cx="4822200" cy="3970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546120" y="5776920"/>
            <a:ext cx="3307680" cy="395280"/>
            <a:chOff x="546120" y="5776920"/>
            <a:chExt cx="3307680" cy="395280"/>
          </a:xfrm>
        </p:grpSpPr>
        <p:sp>
          <p:nvSpPr>
            <p:cNvPr id="337" name=""/>
            <p:cNvSpPr/>
            <p:nvPr/>
          </p:nvSpPr>
          <p:spPr>
            <a:xfrm>
              <a:off x="685800" y="5776920"/>
              <a:ext cx="30272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바탕체"/>
                </a:rPr>
                <a:t>Supplementary SVC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6120" y="5776920"/>
              <a:ext cx="3307680" cy="395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854520" y="5776920"/>
            <a:ext cx="4822200" cy="395280"/>
            <a:chOff x="3854520" y="5776920"/>
            <a:chExt cx="4822200" cy="395280"/>
          </a:xfrm>
        </p:grpSpPr>
        <p:sp>
          <p:nvSpPr>
            <p:cNvPr id="340" name=""/>
            <p:cNvSpPr/>
            <p:nvPr/>
          </p:nvSpPr>
          <p:spPr>
            <a:xfrm>
              <a:off x="3994200" y="5776920"/>
              <a:ext cx="4541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굴림"/>
                  <a:ea typeface="바탕체"/>
                </a:rPr>
                <a:t>H.450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54520" y="5776920"/>
              <a:ext cx="4822200" cy="395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06280" y="98280"/>
            <a:ext cx="199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H.323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477120" y="22096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800100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800100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7454880" y="3809880"/>
            <a:ext cx="12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74548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914400"/>
            <a:ext cx="4952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 “entities”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Gatekeep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Zone controller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AS channel (register, status, admi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rovides access between disparate network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ermi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(IP Phon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nd-point, user interface devi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CU (Multi-point Control Uni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onference controller &amp; audio processo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791320" y="1752480"/>
            <a:ext cx="720720" cy="1067040"/>
            <a:chOff x="5791320" y="1752480"/>
            <a:chExt cx="720720" cy="1067040"/>
          </a:xfrm>
        </p:grpSpPr>
        <p:sp>
          <p:nvSpPr>
            <p:cNvPr id="350" name=""/>
            <p:cNvSpPr/>
            <p:nvPr/>
          </p:nvSpPr>
          <p:spPr>
            <a:xfrm>
              <a:off x="5983200" y="2768400"/>
              <a:ext cx="480600" cy="50760"/>
            </a:xfrm>
            <a:prstGeom prst="parallelogram">
              <a:avLst>
                <a:gd name="adj" fmla="val 26629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53480" y="1892160"/>
              <a:ext cx="0" cy="92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75440" y="1752480"/>
              <a:ext cx="321480" cy="10159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cacae4"/>
                </a:gs>
                <a:gs pos="100000">
                  <a:srgbClr val="333399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83200" y="1879200"/>
              <a:ext cx="32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3200" y="1802880"/>
              <a:ext cx="321480" cy="1016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79320" y="1892160"/>
              <a:ext cx="114840" cy="92736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91320" y="1879200"/>
              <a:ext cx="366120" cy="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319800" y="1752480"/>
              <a:ext cx="19224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83200" y="1752480"/>
              <a:ext cx="480600" cy="50400"/>
            </a:xfrm>
            <a:prstGeom prst="parallelogram">
              <a:avLst>
                <a:gd name="adj" fmla="val 268192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271560" y="2768040"/>
              <a:ext cx="24012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264440" y="3463920"/>
            <a:ext cx="355680" cy="345960"/>
            <a:chOff x="7264440" y="3463920"/>
            <a:chExt cx="355680" cy="345960"/>
          </a:xfrm>
        </p:grpSpPr>
        <p:grpSp>
          <p:nvGrpSpPr>
            <p:cNvPr id="361" name=""/>
            <p:cNvGrpSpPr/>
            <p:nvPr/>
          </p:nvGrpSpPr>
          <p:grpSpPr>
            <a:xfrm>
              <a:off x="7264440" y="3463920"/>
              <a:ext cx="355680" cy="345960"/>
              <a:chOff x="7264440" y="3463920"/>
              <a:chExt cx="355680" cy="345960"/>
            </a:xfrm>
          </p:grpSpPr>
          <p:sp>
            <p:nvSpPr>
              <p:cNvPr id="362" name=""/>
              <p:cNvSpPr/>
              <p:nvPr/>
            </p:nvSpPr>
            <p:spPr>
              <a:xfrm>
                <a:off x="7264440" y="3463920"/>
                <a:ext cx="355680" cy="41400"/>
              </a:xfrm>
              <a:custGeom>
                <a:avLst/>
                <a:gdLst/>
                <a:ahLst/>
                <a:rect l="l" t="t" r="r" b="b"/>
                <a:pathLst>
                  <a:path w="374" h="44">
                    <a:moveTo>
                      <a:pt x="0" y="44"/>
                    </a:moveTo>
                    <a:lnTo>
                      <a:pt x="41" y="0"/>
                    </a:lnTo>
                    <a:lnTo>
                      <a:pt x="374" y="0"/>
                    </a:lnTo>
                    <a:lnTo>
                      <a:pt x="335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9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264440" y="3463920"/>
                <a:ext cx="355680" cy="41400"/>
              </a:xfrm>
              <a:custGeom>
                <a:avLst/>
                <a:gdLst/>
                <a:ahLst/>
                <a:rect l="l" t="t" r="r" b="b"/>
                <a:pathLst>
                  <a:path w="374" h="44">
                    <a:moveTo>
                      <a:pt x="0" y="44"/>
                    </a:moveTo>
                    <a:lnTo>
                      <a:pt x="41" y="0"/>
                    </a:lnTo>
                    <a:lnTo>
                      <a:pt x="374" y="0"/>
                    </a:lnTo>
                    <a:lnTo>
                      <a:pt x="335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9c9b6"/>
              </a:solidFill>
              <a:ln w="324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264440" y="3505320"/>
                <a:ext cx="318600" cy="304200"/>
              </a:xfrm>
              <a:prstGeom prst="rect">
                <a:avLst/>
              </a:pr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265160" y="3506040"/>
                <a:ext cx="316440" cy="302400"/>
              </a:xfrm>
              <a:prstGeom prst="rect">
                <a:avLst/>
              </a:prstGeom>
              <a:solidFill>
                <a:srgbClr val="b7b79d"/>
              </a:solidFill>
              <a:ln w="3240">
                <a:solidFill>
                  <a:srgbClr val="4949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583040" y="3463920"/>
                <a:ext cx="37080" cy="345960"/>
              </a:xfrm>
              <a:custGeom>
                <a:avLst/>
                <a:gdLst/>
                <a:ahLst/>
                <a:rect l="l" t="t" r="r" b="b"/>
                <a:pathLst>
                  <a:path w="39" h="366">
                    <a:moveTo>
                      <a:pt x="0" y="366"/>
                    </a:moveTo>
                    <a:lnTo>
                      <a:pt x="39" y="320"/>
                    </a:lnTo>
                    <a:lnTo>
                      <a:pt x="39" y="0"/>
                    </a:lnTo>
                    <a:lnTo>
                      <a:pt x="0" y="44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583040" y="3463920"/>
                <a:ext cx="37080" cy="345960"/>
              </a:xfrm>
              <a:custGeom>
                <a:avLst/>
                <a:gdLst/>
                <a:ahLst/>
                <a:rect l="l" t="t" r="r" b="b"/>
                <a:pathLst>
                  <a:path w="39" h="366">
                    <a:moveTo>
                      <a:pt x="0" y="366"/>
                    </a:moveTo>
                    <a:lnTo>
                      <a:pt x="39" y="320"/>
                    </a:lnTo>
                    <a:lnTo>
                      <a:pt x="39" y="0"/>
                    </a:lnTo>
                    <a:lnTo>
                      <a:pt x="0" y="44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7a7a5a"/>
              </a:solidFill>
              <a:ln w="324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275600" y="3523320"/>
              <a:ext cx="292680" cy="267840"/>
              <a:chOff x="7275600" y="3523320"/>
              <a:chExt cx="292680" cy="267840"/>
            </a:xfrm>
          </p:grpSpPr>
          <p:sp>
            <p:nvSpPr>
              <p:cNvPr id="369" name=""/>
              <p:cNvSpPr/>
              <p:nvPr/>
            </p:nvSpPr>
            <p:spPr>
              <a:xfrm>
                <a:off x="7383960" y="3523320"/>
                <a:ext cx="75960" cy="41400"/>
              </a:xfrm>
              <a:custGeom>
                <a:avLst/>
                <a:gdLst/>
                <a:ahLst/>
                <a:rect l="l" t="t" r="r" b="b"/>
                <a:pathLst>
                  <a:path w="80" h="44">
                    <a:moveTo>
                      <a:pt x="41" y="0"/>
                    </a:moveTo>
                    <a:lnTo>
                      <a:pt x="0" y="44"/>
                    </a:lnTo>
                    <a:lnTo>
                      <a:pt x="80" y="4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3960" y="3523320"/>
                <a:ext cx="75960" cy="41400"/>
              </a:xfrm>
              <a:custGeom>
                <a:avLst/>
                <a:gdLst/>
                <a:ahLst/>
                <a:rect l="l" t="t" r="r" b="b"/>
                <a:pathLst>
                  <a:path w="80" h="44">
                    <a:moveTo>
                      <a:pt x="41" y="0"/>
                    </a:moveTo>
                    <a:lnTo>
                      <a:pt x="0" y="44"/>
                    </a:lnTo>
                    <a:lnTo>
                      <a:pt x="80" y="4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383960" y="3747960"/>
                <a:ext cx="75960" cy="43200"/>
              </a:xfrm>
              <a:custGeom>
                <a:avLst/>
                <a:gdLst/>
                <a:ahLst/>
                <a:rect l="l" t="t" r="r" b="b"/>
                <a:pathLst>
                  <a:path w="80" h="46">
                    <a:moveTo>
                      <a:pt x="41" y="4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41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383960" y="3747960"/>
                <a:ext cx="75960" cy="43200"/>
              </a:xfrm>
              <a:custGeom>
                <a:avLst/>
                <a:gdLst/>
                <a:ahLst/>
                <a:rect l="l" t="t" r="r" b="b"/>
                <a:pathLst>
                  <a:path w="80" h="46">
                    <a:moveTo>
                      <a:pt x="41" y="4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41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275600" y="3621240"/>
                <a:ext cx="38880" cy="84960"/>
              </a:xfrm>
              <a:custGeom>
                <a:avLst/>
                <a:gdLst/>
                <a:ahLst/>
                <a:rect l="l" t="t" r="r" b="b"/>
                <a:pathLst>
                  <a:path w="41" h="90">
                    <a:moveTo>
                      <a:pt x="0" y="46"/>
                    </a:moveTo>
                    <a:lnTo>
                      <a:pt x="41" y="90"/>
                    </a:lnTo>
                    <a:lnTo>
                      <a:pt x="41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275600" y="3621240"/>
                <a:ext cx="38880" cy="84960"/>
              </a:xfrm>
              <a:custGeom>
                <a:avLst/>
                <a:gdLst/>
                <a:ahLst/>
                <a:rect l="l" t="t" r="r" b="b"/>
                <a:pathLst>
                  <a:path w="41" h="90">
                    <a:moveTo>
                      <a:pt x="0" y="46"/>
                    </a:moveTo>
                    <a:lnTo>
                      <a:pt x="41" y="90"/>
                    </a:lnTo>
                    <a:lnTo>
                      <a:pt x="41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529400" y="3621240"/>
                <a:ext cx="38880" cy="84960"/>
              </a:xfrm>
              <a:custGeom>
                <a:avLst/>
                <a:gdLst/>
                <a:ahLst/>
                <a:rect l="l" t="t" r="r" b="b"/>
                <a:pathLst>
                  <a:path w="41" h="90">
                    <a:moveTo>
                      <a:pt x="41" y="46"/>
                    </a:moveTo>
                    <a:lnTo>
                      <a:pt x="0" y="0"/>
                    </a:lnTo>
                    <a:lnTo>
                      <a:pt x="0" y="90"/>
                    </a:lnTo>
                    <a:lnTo>
                      <a:pt x="41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529400" y="3621240"/>
                <a:ext cx="38880" cy="84960"/>
              </a:xfrm>
              <a:custGeom>
                <a:avLst/>
                <a:gdLst/>
                <a:ahLst/>
                <a:rect l="l" t="t" r="r" b="b"/>
                <a:pathLst>
                  <a:path w="41" h="90">
                    <a:moveTo>
                      <a:pt x="41" y="46"/>
                    </a:moveTo>
                    <a:lnTo>
                      <a:pt x="0" y="0"/>
                    </a:lnTo>
                    <a:lnTo>
                      <a:pt x="0" y="90"/>
                    </a:lnTo>
                    <a:lnTo>
                      <a:pt x="41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363080" y="3621240"/>
                <a:ext cx="119880" cy="98280"/>
              </a:xfrm>
              <a:custGeom>
                <a:avLst/>
                <a:gdLst/>
                <a:ahLst/>
                <a:rect l="l" t="t" r="r" b="b"/>
                <a:pathLst>
                  <a:path w="126" h="104">
                    <a:moveTo>
                      <a:pt x="95" y="0"/>
                    </a:moveTo>
                    <a:lnTo>
                      <a:pt x="34" y="0"/>
                    </a:lnTo>
                    <a:lnTo>
                      <a:pt x="34" y="30"/>
                    </a:lnTo>
                    <a:lnTo>
                      <a:pt x="0" y="68"/>
                    </a:lnTo>
                    <a:lnTo>
                      <a:pt x="0" y="101"/>
                    </a:lnTo>
                    <a:lnTo>
                      <a:pt x="5" y="104"/>
                    </a:lnTo>
                    <a:lnTo>
                      <a:pt x="124" y="104"/>
                    </a:lnTo>
                    <a:lnTo>
                      <a:pt x="126" y="98"/>
                    </a:lnTo>
                    <a:lnTo>
                      <a:pt x="126" y="68"/>
                    </a:lnTo>
                    <a:lnTo>
                      <a:pt x="95" y="3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363080" y="3621240"/>
                <a:ext cx="119880" cy="98280"/>
              </a:xfrm>
              <a:custGeom>
                <a:avLst/>
                <a:gdLst/>
                <a:ahLst/>
                <a:rect l="l" t="t" r="r" b="b"/>
                <a:pathLst>
                  <a:path w="126" h="104">
                    <a:moveTo>
                      <a:pt x="95" y="0"/>
                    </a:moveTo>
                    <a:lnTo>
                      <a:pt x="34" y="0"/>
                    </a:lnTo>
                    <a:lnTo>
                      <a:pt x="34" y="30"/>
                    </a:lnTo>
                    <a:lnTo>
                      <a:pt x="0" y="68"/>
                    </a:lnTo>
                    <a:lnTo>
                      <a:pt x="0" y="101"/>
                    </a:lnTo>
                    <a:lnTo>
                      <a:pt x="5" y="104"/>
                    </a:lnTo>
                    <a:lnTo>
                      <a:pt x="124" y="104"/>
                    </a:lnTo>
                    <a:lnTo>
                      <a:pt x="126" y="98"/>
                    </a:lnTo>
                    <a:lnTo>
                      <a:pt x="126" y="68"/>
                    </a:lnTo>
                    <a:lnTo>
                      <a:pt x="95" y="3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342200" y="3587400"/>
                <a:ext cx="161640" cy="69840"/>
              </a:xfrm>
              <a:custGeom>
                <a:avLst/>
                <a:gdLst/>
                <a:ahLst/>
                <a:rect l="l" t="t" r="r" b="b"/>
                <a:pathLst>
                  <a:path w="170" h="74">
                    <a:moveTo>
                      <a:pt x="102" y="0"/>
                    </a:moveTo>
                    <a:lnTo>
                      <a:pt x="93" y="0"/>
                    </a:lnTo>
                    <a:lnTo>
                      <a:pt x="73" y="0"/>
                    </a:lnTo>
                    <a:lnTo>
                      <a:pt x="59" y="3"/>
                    </a:lnTo>
                    <a:lnTo>
                      <a:pt x="42" y="6"/>
                    </a:lnTo>
                    <a:lnTo>
                      <a:pt x="27" y="11"/>
                    </a:lnTo>
                    <a:lnTo>
                      <a:pt x="17" y="19"/>
                    </a:lnTo>
                    <a:lnTo>
                      <a:pt x="8" y="28"/>
                    </a:lnTo>
                    <a:lnTo>
                      <a:pt x="0" y="44"/>
                    </a:lnTo>
                    <a:lnTo>
                      <a:pt x="0" y="66"/>
                    </a:lnTo>
                    <a:lnTo>
                      <a:pt x="5" y="74"/>
                    </a:lnTo>
                    <a:lnTo>
                      <a:pt x="30" y="74"/>
                    </a:lnTo>
                    <a:lnTo>
                      <a:pt x="37" y="66"/>
                    </a:lnTo>
                    <a:lnTo>
                      <a:pt x="37" y="47"/>
                    </a:lnTo>
                    <a:lnTo>
                      <a:pt x="32" y="47"/>
                    </a:lnTo>
                    <a:lnTo>
                      <a:pt x="34" y="36"/>
                    </a:lnTo>
                    <a:lnTo>
                      <a:pt x="54" y="25"/>
                    </a:lnTo>
                    <a:lnTo>
                      <a:pt x="66" y="22"/>
                    </a:lnTo>
                    <a:lnTo>
                      <a:pt x="73" y="22"/>
                    </a:lnTo>
                    <a:lnTo>
                      <a:pt x="85" y="22"/>
                    </a:lnTo>
                    <a:lnTo>
                      <a:pt x="95" y="22"/>
                    </a:lnTo>
                    <a:lnTo>
                      <a:pt x="107" y="25"/>
                    </a:lnTo>
                    <a:lnTo>
                      <a:pt x="122" y="28"/>
                    </a:lnTo>
                    <a:lnTo>
                      <a:pt x="131" y="33"/>
                    </a:lnTo>
                    <a:lnTo>
                      <a:pt x="139" y="47"/>
                    </a:lnTo>
                    <a:lnTo>
                      <a:pt x="134" y="47"/>
                    </a:lnTo>
                    <a:lnTo>
                      <a:pt x="134" y="66"/>
                    </a:lnTo>
                    <a:lnTo>
                      <a:pt x="141" y="74"/>
                    </a:lnTo>
                    <a:lnTo>
                      <a:pt x="165" y="74"/>
                    </a:lnTo>
                    <a:lnTo>
                      <a:pt x="170" y="66"/>
                    </a:lnTo>
                    <a:lnTo>
                      <a:pt x="170" y="44"/>
                    </a:lnTo>
                    <a:lnTo>
                      <a:pt x="165" y="33"/>
                    </a:lnTo>
                    <a:lnTo>
                      <a:pt x="153" y="19"/>
                    </a:lnTo>
                    <a:lnTo>
                      <a:pt x="141" y="11"/>
                    </a:lnTo>
                    <a:lnTo>
                      <a:pt x="129" y="6"/>
                    </a:lnTo>
                    <a:lnTo>
                      <a:pt x="112" y="3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342200" y="3587400"/>
                <a:ext cx="161640" cy="69840"/>
              </a:xfrm>
              <a:custGeom>
                <a:avLst/>
                <a:gdLst/>
                <a:ahLst/>
                <a:rect l="l" t="t" r="r" b="b"/>
                <a:pathLst>
                  <a:path w="170" h="74">
                    <a:moveTo>
                      <a:pt x="102" y="0"/>
                    </a:moveTo>
                    <a:lnTo>
                      <a:pt x="93" y="0"/>
                    </a:lnTo>
                    <a:lnTo>
                      <a:pt x="73" y="0"/>
                    </a:lnTo>
                    <a:lnTo>
                      <a:pt x="59" y="3"/>
                    </a:lnTo>
                    <a:lnTo>
                      <a:pt x="42" y="6"/>
                    </a:lnTo>
                    <a:lnTo>
                      <a:pt x="27" y="11"/>
                    </a:lnTo>
                    <a:lnTo>
                      <a:pt x="17" y="19"/>
                    </a:lnTo>
                    <a:lnTo>
                      <a:pt x="8" y="28"/>
                    </a:lnTo>
                    <a:lnTo>
                      <a:pt x="0" y="44"/>
                    </a:lnTo>
                    <a:lnTo>
                      <a:pt x="0" y="66"/>
                    </a:lnTo>
                    <a:lnTo>
                      <a:pt x="5" y="74"/>
                    </a:lnTo>
                    <a:lnTo>
                      <a:pt x="30" y="74"/>
                    </a:lnTo>
                    <a:lnTo>
                      <a:pt x="37" y="66"/>
                    </a:lnTo>
                    <a:lnTo>
                      <a:pt x="37" y="47"/>
                    </a:lnTo>
                    <a:lnTo>
                      <a:pt x="32" y="47"/>
                    </a:lnTo>
                    <a:lnTo>
                      <a:pt x="34" y="36"/>
                    </a:lnTo>
                    <a:lnTo>
                      <a:pt x="54" y="25"/>
                    </a:lnTo>
                    <a:lnTo>
                      <a:pt x="66" y="22"/>
                    </a:lnTo>
                    <a:lnTo>
                      <a:pt x="73" y="22"/>
                    </a:lnTo>
                    <a:lnTo>
                      <a:pt x="85" y="22"/>
                    </a:lnTo>
                    <a:lnTo>
                      <a:pt x="95" y="22"/>
                    </a:lnTo>
                    <a:lnTo>
                      <a:pt x="107" y="25"/>
                    </a:lnTo>
                    <a:lnTo>
                      <a:pt x="122" y="28"/>
                    </a:lnTo>
                    <a:lnTo>
                      <a:pt x="131" y="33"/>
                    </a:lnTo>
                    <a:lnTo>
                      <a:pt x="139" y="47"/>
                    </a:lnTo>
                    <a:lnTo>
                      <a:pt x="134" y="47"/>
                    </a:lnTo>
                    <a:lnTo>
                      <a:pt x="134" y="66"/>
                    </a:lnTo>
                    <a:lnTo>
                      <a:pt x="141" y="74"/>
                    </a:lnTo>
                    <a:lnTo>
                      <a:pt x="165" y="74"/>
                    </a:lnTo>
                    <a:lnTo>
                      <a:pt x="170" y="66"/>
                    </a:lnTo>
                    <a:lnTo>
                      <a:pt x="170" y="44"/>
                    </a:lnTo>
                    <a:lnTo>
                      <a:pt x="165" y="33"/>
                    </a:lnTo>
                    <a:lnTo>
                      <a:pt x="153" y="19"/>
                    </a:lnTo>
                    <a:lnTo>
                      <a:pt x="141" y="11"/>
                    </a:lnTo>
                    <a:lnTo>
                      <a:pt x="129" y="6"/>
                    </a:lnTo>
                    <a:lnTo>
                      <a:pt x="112" y="3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7278840" y="3526200"/>
              <a:ext cx="292320" cy="268200"/>
              <a:chOff x="7278840" y="3526200"/>
              <a:chExt cx="292320" cy="268200"/>
            </a:xfrm>
          </p:grpSpPr>
          <p:sp>
            <p:nvSpPr>
              <p:cNvPr id="382" name=""/>
              <p:cNvSpPr/>
              <p:nvPr/>
            </p:nvSpPr>
            <p:spPr>
              <a:xfrm>
                <a:off x="7386840" y="3526200"/>
                <a:ext cx="75960" cy="40680"/>
              </a:xfrm>
              <a:custGeom>
                <a:avLst/>
                <a:gdLst/>
                <a:ahLst/>
                <a:rect l="l" t="t" r="r" b="b"/>
                <a:pathLst>
                  <a:path w="80" h="43">
                    <a:moveTo>
                      <a:pt x="41" y="0"/>
                    </a:moveTo>
                    <a:lnTo>
                      <a:pt x="0" y="43"/>
                    </a:lnTo>
                    <a:lnTo>
                      <a:pt x="80" y="4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386840" y="3526200"/>
                <a:ext cx="75960" cy="40680"/>
              </a:xfrm>
              <a:custGeom>
                <a:avLst/>
                <a:gdLst/>
                <a:ahLst/>
                <a:rect l="l" t="t" r="r" b="b"/>
                <a:pathLst>
                  <a:path w="80" h="43">
                    <a:moveTo>
                      <a:pt x="41" y="0"/>
                    </a:moveTo>
                    <a:lnTo>
                      <a:pt x="0" y="43"/>
                    </a:lnTo>
                    <a:lnTo>
                      <a:pt x="80" y="4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86840" y="3750120"/>
                <a:ext cx="75960" cy="44280"/>
              </a:xfrm>
              <a:custGeom>
                <a:avLst/>
                <a:gdLst/>
                <a:ahLst/>
                <a:rect l="l" t="t" r="r" b="b"/>
                <a:pathLst>
                  <a:path w="80" h="47">
                    <a:moveTo>
                      <a:pt x="41" y="47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41" y="47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386840" y="3750120"/>
                <a:ext cx="75960" cy="44280"/>
              </a:xfrm>
              <a:custGeom>
                <a:avLst/>
                <a:gdLst/>
                <a:ahLst/>
                <a:rect l="l" t="t" r="r" b="b"/>
                <a:pathLst>
                  <a:path w="80" h="47">
                    <a:moveTo>
                      <a:pt x="41" y="47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41" y="47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78840" y="3623400"/>
                <a:ext cx="38520" cy="85680"/>
              </a:xfrm>
              <a:custGeom>
                <a:avLst/>
                <a:gdLst/>
                <a:ahLst/>
                <a:rect l="l" t="t" r="r" b="b"/>
                <a:pathLst>
                  <a:path w="41" h="91">
                    <a:moveTo>
                      <a:pt x="0" y="47"/>
                    </a:moveTo>
                    <a:lnTo>
                      <a:pt x="41" y="91"/>
                    </a:lnTo>
                    <a:lnTo>
                      <a:pt x="41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278840" y="3623400"/>
                <a:ext cx="38520" cy="85680"/>
              </a:xfrm>
              <a:custGeom>
                <a:avLst/>
                <a:gdLst/>
                <a:ahLst/>
                <a:rect l="l" t="t" r="r" b="b"/>
                <a:pathLst>
                  <a:path w="41" h="91">
                    <a:moveTo>
                      <a:pt x="0" y="47"/>
                    </a:moveTo>
                    <a:lnTo>
                      <a:pt x="41" y="91"/>
                    </a:lnTo>
                    <a:lnTo>
                      <a:pt x="41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31560" y="3623400"/>
                <a:ext cx="39600" cy="85680"/>
              </a:xfrm>
              <a:custGeom>
                <a:avLst/>
                <a:gdLst/>
                <a:ahLst/>
                <a:rect l="l" t="t" r="r" b="b"/>
                <a:pathLst>
                  <a:path w="42" h="91">
                    <a:moveTo>
                      <a:pt x="42" y="47"/>
                    </a:moveTo>
                    <a:lnTo>
                      <a:pt x="0" y="0"/>
                    </a:lnTo>
                    <a:lnTo>
                      <a:pt x="0" y="91"/>
                    </a:lnTo>
                    <a:lnTo>
                      <a:pt x="42" y="47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531560" y="3623400"/>
                <a:ext cx="39600" cy="85680"/>
              </a:xfrm>
              <a:custGeom>
                <a:avLst/>
                <a:gdLst/>
                <a:ahLst/>
                <a:rect l="l" t="t" r="r" b="b"/>
                <a:pathLst>
                  <a:path w="42" h="91">
                    <a:moveTo>
                      <a:pt x="42" y="47"/>
                    </a:moveTo>
                    <a:lnTo>
                      <a:pt x="0" y="0"/>
                    </a:lnTo>
                    <a:lnTo>
                      <a:pt x="0" y="91"/>
                    </a:lnTo>
                    <a:lnTo>
                      <a:pt x="42" y="47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365960" y="3623400"/>
                <a:ext cx="119880" cy="98280"/>
              </a:xfrm>
              <a:custGeom>
                <a:avLst/>
                <a:gdLst/>
                <a:ahLst/>
                <a:rect l="l" t="t" r="r" b="b"/>
                <a:pathLst>
                  <a:path w="126" h="104">
                    <a:moveTo>
                      <a:pt x="94" y="0"/>
                    </a:moveTo>
                    <a:lnTo>
                      <a:pt x="34" y="0"/>
                    </a:lnTo>
                    <a:lnTo>
                      <a:pt x="34" y="31"/>
                    </a:lnTo>
                    <a:lnTo>
                      <a:pt x="0" y="69"/>
                    </a:lnTo>
                    <a:lnTo>
                      <a:pt x="0" y="102"/>
                    </a:lnTo>
                    <a:lnTo>
                      <a:pt x="5" y="104"/>
                    </a:lnTo>
                    <a:lnTo>
                      <a:pt x="123" y="104"/>
                    </a:lnTo>
                    <a:lnTo>
                      <a:pt x="126" y="99"/>
                    </a:lnTo>
                    <a:lnTo>
                      <a:pt x="126" y="69"/>
                    </a:lnTo>
                    <a:lnTo>
                      <a:pt x="94" y="31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65960" y="3623400"/>
                <a:ext cx="119880" cy="98280"/>
              </a:xfrm>
              <a:custGeom>
                <a:avLst/>
                <a:gdLst/>
                <a:ahLst/>
                <a:rect l="l" t="t" r="r" b="b"/>
                <a:pathLst>
                  <a:path w="126" h="104">
                    <a:moveTo>
                      <a:pt x="94" y="0"/>
                    </a:moveTo>
                    <a:lnTo>
                      <a:pt x="34" y="0"/>
                    </a:lnTo>
                    <a:lnTo>
                      <a:pt x="34" y="31"/>
                    </a:lnTo>
                    <a:lnTo>
                      <a:pt x="0" y="69"/>
                    </a:lnTo>
                    <a:lnTo>
                      <a:pt x="0" y="102"/>
                    </a:lnTo>
                    <a:lnTo>
                      <a:pt x="5" y="104"/>
                    </a:lnTo>
                    <a:lnTo>
                      <a:pt x="123" y="104"/>
                    </a:lnTo>
                    <a:lnTo>
                      <a:pt x="126" y="99"/>
                    </a:lnTo>
                    <a:lnTo>
                      <a:pt x="126" y="69"/>
                    </a:lnTo>
                    <a:lnTo>
                      <a:pt x="94" y="31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45080" y="3590280"/>
                <a:ext cx="161640" cy="69840"/>
              </a:xfrm>
              <a:custGeom>
                <a:avLst/>
                <a:gdLst/>
                <a:ahLst/>
                <a:rect l="l" t="t" r="r" b="b"/>
                <a:pathLst>
                  <a:path w="170" h="74">
                    <a:moveTo>
                      <a:pt x="102" y="0"/>
                    </a:moveTo>
                    <a:lnTo>
                      <a:pt x="92" y="0"/>
                    </a:lnTo>
                    <a:lnTo>
                      <a:pt x="73" y="0"/>
                    </a:lnTo>
                    <a:lnTo>
                      <a:pt x="58" y="3"/>
                    </a:lnTo>
                    <a:lnTo>
                      <a:pt x="41" y="5"/>
                    </a:lnTo>
                    <a:lnTo>
                      <a:pt x="27" y="11"/>
                    </a:lnTo>
                    <a:lnTo>
                      <a:pt x="17" y="19"/>
                    </a:lnTo>
                    <a:lnTo>
                      <a:pt x="7" y="27"/>
                    </a:lnTo>
                    <a:lnTo>
                      <a:pt x="0" y="44"/>
                    </a:lnTo>
                    <a:lnTo>
                      <a:pt x="0" y="66"/>
                    </a:lnTo>
                    <a:lnTo>
                      <a:pt x="5" y="74"/>
                    </a:lnTo>
                    <a:lnTo>
                      <a:pt x="29" y="74"/>
                    </a:lnTo>
                    <a:lnTo>
                      <a:pt x="36" y="66"/>
                    </a:lnTo>
                    <a:lnTo>
                      <a:pt x="36" y="46"/>
                    </a:lnTo>
                    <a:lnTo>
                      <a:pt x="31" y="46"/>
                    </a:lnTo>
                    <a:lnTo>
                      <a:pt x="34" y="35"/>
                    </a:lnTo>
                    <a:lnTo>
                      <a:pt x="53" y="25"/>
                    </a:lnTo>
                    <a:lnTo>
                      <a:pt x="65" y="22"/>
                    </a:lnTo>
                    <a:lnTo>
                      <a:pt x="73" y="22"/>
                    </a:lnTo>
                    <a:lnTo>
                      <a:pt x="85" y="22"/>
                    </a:lnTo>
                    <a:lnTo>
                      <a:pt x="95" y="22"/>
                    </a:lnTo>
                    <a:lnTo>
                      <a:pt x="107" y="25"/>
                    </a:lnTo>
                    <a:lnTo>
                      <a:pt x="121" y="27"/>
                    </a:lnTo>
                    <a:lnTo>
                      <a:pt x="131" y="33"/>
                    </a:lnTo>
                    <a:lnTo>
                      <a:pt x="138" y="46"/>
                    </a:lnTo>
                    <a:lnTo>
                      <a:pt x="133" y="46"/>
                    </a:lnTo>
                    <a:lnTo>
                      <a:pt x="133" y="66"/>
                    </a:lnTo>
                    <a:lnTo>
                      <a:pt x="141" y="74"/>
                    </a:lnTo>
                    <a:lnTo>
                      <a:pt x="165" y="74"/>
                    </a:lnTo>
                    <a:lnTo>
                      <a:pt x="170" y="66"/>
                    </a:lnTo>
                    <a:lnTo>
                      <a:pt x="170" y="44"/>
                    </a:lnTo>
                    <a:lnTo>
                      <a:pt x="165" y="33"/>
                    </a:lnTo>
                    <a:lnTo>
                      <a:pt x="153" y="19"/>
                    </a:lnTo>
                    <a:lnTo>
                      <a:pt x="141" y="11"/>
                    </a:lnTo>
                    <a:lnTo>
                      <a:pt x="128" y="5"/>
                    </a:lnTo>
                    <a:lnTo>
                      <a:pt x="111" y="3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345080" y="3590280"/>
                <a:ext cx="161640" cy="69840"/>
              </a:xfrm>
              <a:custGeom>
                <a:avLst/>
                <a:gdLst/>
                <a:ahLst/>
                <a:rect l="l" t="t" r="r" b="b"/>
                <a:pathLst>
                  <a:path w="170" h="74">
                    <a:moveTo>
                      <a:pt x="102" y="0"/>
                    </a:moveTo>
                    <a:lnTo>
                      <a:pt x="92" y="0"/>
                    </a:lnTo>
                    <a:lnTo>
                      <a:pt x="73" y="0"/>
                    </a:lnTo>
                    <a:lnTo>
                      <a:pt x="58" y="3"/>
                    </a:lnTo>
                    <a:lnTo>
                      <a:pt x="41" y="5"/>
                    </a:lnTo>
                    <a:lnTo>
                      <a:pt x="27" y="11"/>
                    </a:lnTo>
                    <a:lnTo>
                      <a:pt x="17" y="19"/>
                    </a:lnTo>
                    <a:lnTo>
                      <a:pt x="7" y="27"/>
                    </a:lnTo>
                    <a:lnTo>
                      <a:pt x="0" y="44"/>
                    </a:lnTo>
                    <a:lnTo>
                      <a:pt x="0" y="66"/>
                    </a:lnTo>
                    <a:lnTo>
                      <a:pt x="5" y="74"/>
                    </a:lnTo>
                    <a:lnTo>
                      <a:pt x="29" y="74"/>
                    </a:lnTo>
                    <a:lnTo>
                      <a:pt x="36" y="66"/>
                    </a:lnTo>
                    <a:lnTo>
                      <a:pt x="36" y="46"/>
                    </a:lnTo>
                    <a:lnTo>
                      <a:pt x="31" y="46"/>
                    </a:lnTo>
                    <a:lnTo>
                      <a:pt x="34" y="35"/>
                    </a:lnTo>
                    <a:lnTo>
                      <a:pt x="53" y="25"/>
                    </a:lnTo>
                    <a:lnTo>
                      <a:pt x="65" y="22"/>
                    </a:lnTo>
                    <a:lnTo>
                      <a:pt x="73" y="22"/>
                    </a:lnTo>
                    <a:lnTo>
                      <a:pt x="85" y="22"/>
                    </a:lnTo>
                    <a:lnTo>
                      <a:pt x="95" y="22"/>
                    </a:lnTo>
                    <a:lnTo>
                      <a:pt x="107" y="25"/>
                    </a:lnTo>
                    <a:lnTo>
                      <a:pt x="121" y="27"/>
                    </a:lnTo>
                    <a:lnTo>
                      <a:pt x="131" y="33"/>
                    </a:lnTo>
                    <a:lnTo>
                      <a:pt x="138" y="46"/>
                    </a:lnTo>
                    <a:lnTo>
                      <a:pt x="133" y="46"/>
                    </a:lnTo>
                    <a:lnTo>
                      <a:pt x="133" y="66"/>
                    </a:lnTo>
                    <a:lnTo>
                      <a:pt x="141" y="74"/>
                    </a:lnTo>
                    <a:lnTo>
                      <a:pt x="165" y="74"/>
                    </a:lnTo>
                    <a:lnTo>
                      <a:pt x="170" y="66"/>
                    </a:lnTo>
                    <a:lnTo>
                      <a:pt x="170" y="44"/>
                    </a:lnTo>
                    <a:lnTo>
                      <a:pt x="165" y="33"/>
                    </a:lnTo>
                    <a:lnTo>
                      <a:pt x="153" y="19"/>
                    </a:lnTo>
                    <a:lnTo>
                      <a:pt x="141" y="11"/>
                    </a:lnTo>
                    <a:lnTo>
                      <a:pt x="128" y="5"/>
                    </a:lnTo>
                    <a:lnTo>
                      <a:pt x="111" y="3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6934320" y="1928880"/>
            <a:ext cx="1447200" cy="585360"/>
            <a:chOff x="6934320" y="1928880"/>
            <a:chExt cx="1447200" cy="585360"/>
          </a:xfrm>
        </p:grpSpPr>
        <p:sp>
          <p:nvSpPr>
            <p:cNvPr id="395" name=""/>
            <p:cNvSpPr/>
            <p:nvPr/>
          </p:nvSpPr>
          <p:spPr>
            <a:xfrm>
              <a:off x="6934320" y="2025360"/>
              <a:ext cx="609120" cy="1684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78600" y="2023200"/>
              <a:ext cx="606240" cy="16812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11920" y="2103480"/>
              <a:ext cx="669600" cy="2728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50720" y="2072160"/>
              <a:ext cx="667440" cy="27540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12160" y="2029320"/>
              <a:ext cx="609120" cy="2278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51680" y="1996200"/>
              <a:ext cx="606240" cy="2300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51200" y="2148840"/>
              <a:ext cx="604440" cy="2278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92520" y="2117520"/>
              <a:ext cx="604440" cy="2300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75400" y="1959480"/>
              <a:ext cx="603720" cy="2278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412040" y="1928880"/>
              <a:ext cx="608400" cy="2278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92520" y="2286360"/>
              <a:ext cx="604440" cy="2278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29520" y="2255400"/>
              <a:ext cx="606240" cy="23004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50720" y="2239200"/>
              <a:ext cx="606960" cy="2278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92400" y="2210400"/>
              <a:ext cx="604440" cy="2278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20720" y="2270160"/>
              <a:ext cx="396000" cy="23004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60240" y="2241000"/>
              <a:ext cx="395640" cy="2278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65360" y="2054160"/>
              <a:ext cx="1161360" cy="41112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02000" y="2021040"/>
              <a:ext cx="1154520" cy="406800"/>
            </a:xfrm>
            <a:prstGeom prst="ellipse">
              <a:avLst/>
            </a:prstGeom>
            <a:gradFill rotWithShape="0">
              <a:gsLst>
                <a:gs pos="0">
                  <a:srgbClr val="cedcfd"/>
                </a:gs>
                <a:gs pos="100000">
                  <a:srgbClr val="618ff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100280" y="2124000"/>
              <a:ext cx="99324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81000" bIns="810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2817720"/>
                  <a:tab algn="l" pos="5635800"/>
                  <a:tab algn="l" pos="845352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Internet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2"/>
          <a:srcRect l="30680" t="24288" r="29813" b="34742"/>
          <a:stretch/>
        </p:blipFill>
        <p:spPr>
          <a:xfrm>
            <a:off x="5511960" y="3675240"/>
            <a:ext cx="631800" cy="43956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7816680" y="3463920"/>
            <a:ext cx="336600" cy="345960"/>
            <a:chOff x="7816680" y="3463920"/>
            <a:chExt cx="336600" cy="345960"/>
          </a:xfrm>
        </p:grpSpPr>
        <p:grpSp>
          <p:nvGrpSpPr>
            <p:cNvPr id="416" name=""/>
            <p:cNvGrpSpPr/>
            <p:nvPr/>
          </p:nvGrpSpPr>
          <p:grpSpPr>
            <a:xfrm>
              <a:off x="7816680" y="3463920"/>
              <a:ext cx="336600" cy="345960"/>
              <a:chOff x="7816680" y="3463920"/>
              <a:chExt cx="336600" cy="345960"/>
            </a:xfrm>
          </p:grpSpPr>
          <p:sp>
            <p:nvSpPr>
              <p:cNvPr id="417" name=""/>
              <p:cNvSpPr/>
              <p:nvPr/>
            </p:nvSpPr>
            <p:spPr>
              <a:xfrm>
                <a:off x="7816680" y="3463920"/>
                <a:ext cx="336600" cy="41400"/>
              </a:xfrm>
              <a:custGeom>
                <a:avLst/>
                <a:gdLst/>
                <a:ahLst/>
                <a:rect l="l" t="t" r="r" b="b"/>
                <a:pathLst>
                  <a:path w="374" h="44">
                    <a:moveTo>
                      <a:pt x="0" y="44"/>
                    </a:moveTo>
                    <a:lnTo>
                      <a:pt x="41" y="0"/>
                    </a:lnTo>
                    <a:lnTo>
                      <a:pt x="374" y="0"/>
                    </a:lnTo>
                    <a:lnTo>
                      <a:pt x="335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9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816680" y="3463920"/>
                <a:ext cx="336600" cy="41400"/>
              </a:xfrm>
              <a:custGeom>
                <a:avLst/>
                <a:gdLst/>
                <a:ahLst/>
                <a:rect l="l" t="t" r="r" b="b"/>
                <a:pathLst>
                  <a:path w="374" h="44">
                    <a:moveTo>
                      <a:pt x="0" y="44"/>
                    </a:moveTo>
                    <a:lnTo>
                      <a:pt x="41" y="0"/>
                    </a:lnTo>
                    <a:lnTo>
                      <a:pt x="374" y="0"/>
                    </a:lnTo>
                    <a:lnTo>
                      <a:pt x="335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9c9b6"/>
              </a:solidFill>
              <a:ln w="324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816680" y="3505320"/>
                <a:ext cx="301320" cy="304200"/>
              </a:xfrm>
              <a:prstGeom prst="rect">
                <a:avLst/>
              </a:pr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817400" y="3506040"/>
                <a:ext cx="299520" cy="302400"/>
              </a:xfrm>
              <a:prstGeom prst="rect">
                <a:avLst/>
              </a:prstGeom>
              <a:solidFill>
                <a:srgbClr val="b7b79d"/>
              </a:solidFill>
              <a:ln w="3240">
                <a:solidFill>
                  <a:srgbClr val="4949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118000" y="3463920"/>
                <a:ext cx="34920" cy="345960"/>
              </a:xfrm>
              <a:custGeom>
                <a:avLst/>
                <a:gdLst/>
                <a:ahLst/>
                <a:rect l="l" t="t" r="r" b="b"/>
                <a:pathLst>
                  <a:path w="39" h="366">
                    <a:moveTo>
                      <a:pt x="0" y="366"/>
                    </a:moveTo>
                    <a:lnTo>
                      <a:pt x="39" y="320"/>
                    </a:lnTo>
                    <a:lnTo>
                      <a:pt x="39" y="0"/>
                    </a:lnTo>
                    <a:lnTo>
                      <a:pt x="0" y="44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118000" y="3463920"/>
                <a:ext cx="34920" cy="345960"/>
              </a:xfrm>
              <a:custGeom>
                <a:avLst/>
                <a:gdLst/>
                <a:ahLst/>
                <a:rect l="l" t="t" r="r" b="b"/>
                <a:pathLst>
                  <a:path w="39" h="366">
                    <a:moveTo>
                      <a:pt x="0" y="366"/>
                    </a:moveTo>
                    <a:lnTo>
                      <a:pt x="39" y="320"/>
                    </a:lnTo>
                    <a:lnTo>
                      <a:pt x="39" y="0"/>
                    </a:lnTo>
                    <a:lnTo>
                      <a:pt x="0" y="44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7a7a5a"/>
              </a:solidFill>
              <a:ln w="324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7827480" y="3523320"/>
              <a:ext cx="276840" cy="267840"/>
              <a:chOff x="7827480" y="3523320"/>
              <a:chExt cx="276840" cy="267840"/>
            </a:xfrm>
          </p:grpSpPr>
          <p:sp>
            <p:nvSpPr>
              <p:cNvPr id="424" name=""/>
              <p:cNvSpPr/>
              <p:nvPr/>
            </p:nvSpPr>
            <p:spPr>
              <a:xfrm>
                <a:off x="7930080" y="3523320"/>
                <a:ext cx="72000" cy="41400"/>
              </a:xfrm>
              <a:custGeom>
                <a:avLst/>
                <a:gdLst/>
                <a:ahLst/>
                <a:rect l="l" t="t" r="r" b="b"/>
                <a:pathLst>
                  <a:path w="80" h="44">
                    <a:moveTo>
                      <a:pt x="41" y="0"/>
                    </a:moveTo>
                    <a:lnTo>
                      <a:pt x="0" y="44"/>
                    </a:lnTo>
                    <a:lnTo>
                      <a:pt x="80" y="4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930080" y="3523320"/>
                <a:ext cx="72000" cy="41400"/>
              </a:xfrm>
              <a:custGeom>
                <a:avLst/>
                <a:gdLst/>
                <a:ahLst/>
                <a:rect l="l" t="t" r="r" b="b"/>
                <a:pathLst>
                  <a:path w="80" h="44">
                    <a:moveTo>
                      <a:pt x="41" y="0"/>
                    </a:moveTo>
                    <a:lnTo>
                      <a:pt x="0" y="44"/>
                    </a:lnTo>
                    <a:lnTo>
                      <a:pt x="80" y="4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930080" y="3747960"/>
                <a:ext cx="72000" cy="43200"/>
              </a:xfrm>
              <a:custGeom>
                <a:avLst/>
                <a:gdLst/>
                <a:ahLst/>
                <a:rect l="l" t="t" r="r" b="b"/>
                <a:pathLst>
                  <a:path w="80" h="46">
                    <a:moveTo>
                      <a:pt x="41" y="4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41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930080" y="3747960"/>
                <a:ext cx="72000" cy="43200"/>
              </a:xfrm>
              <a:custGeom>
                <a:avLst/>
                <a:gdLst/>
                <a:ahLst/>
                <a:rect l="l" t="t" r="r" b="b"/>
                <a:pathLst>
                  <a:path w="80" h="46">
                    <a:moveTo>
                      <a:pt x="41" y="4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41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827480" y="3621240"/>
                <a:ext cx="36720" cy="84960"/>
              </a:xfrm>
              <a:custGeom>
                <a:avLst/>
                <a:gdLst/>
                <a:ahLst/>
                <a:rect l="l" t="t" r="r" b="b"/>
                <a:pathLst>
                  <a:path w="41" h="90">
                    <a:moveTo>
                      <a:pt x="0" y="46"/>
                    </a:moveTo>
                    <a:lnTo>
                      <a:pt x="41" y="90"/>
                    </a:lnTo>
                    <a:lnTo>
                      <a:pt x="41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827480" y="3621240"/>
                <a:ext cx="36720" cy="84960"/>
              </a:xfrm>
              <a:custGeom>
                <a:avLst/>
                <a:gdLst/>
                <a:ahLst/>
                <a:rect l="l" t="t" r="r" b="b"/>
                <a:pathLst>
                  <a:path w="41" h="90">
                    <a:moveTo>
                      <a:pt x="0" y="46"/>
                    </a:moveTo>
                    <a:lnTo>
                      <a:pt x="41" y="90"/>
                    </a:lnTo>
                    <a:lnTo>
                      <a:pt x="41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067600" y="3621240"/>
                <a:ext cx="36720" cy="84960"/>
              </a:xfrm>
              <a:custGeom>
                <a:avLst/>
                <a:gdLst/>
                <a:ahLst/>
                <a:rect l="l" t="t" r="r" b="b"/>
                <a:pathLst>
                  <a:path w="41" h="90">
                    <a:moveTo>
                      <a:pt x="41" y="46"/>
                    </a:moveTo>
                    <a:lnTo>
                      <a:pt x="0" y="0"/>
                    </a:lnTo>
                    <a:lnTo>
                      <a:pt x="0" y="90"/>
                    </a:lnTo>
                    <a:lnTo>
                      <a:pt x="41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067600" y="3621240"/>
                <a:ext cx="36720" cy="84960"/>
              </a:xfrm>
              <a:custGeom>
                <a:avLst/>
                <a:gdLst/>
                <a:ahLst/>
                <a:rect l="l" t="t" r="r" b="b"/>
                <a:pathLst>
                  <a:path w="41" h="90">
                    <a:moveTo>
                      <a:pt x="41" y="46"/>
                    </a:moveTo>
                    <a:lnTo>
                      <a:pt x="0" y="0"/>
                    </a:lnTo>
                    <a:lnTo>
                      <a:pt x="0" y="90"/>
                    </a:lnTo>
                    <a:lnTo>
                      <a:pt x="41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910280" y="3621240"/>
                <a:ext cx="113400" cy="98280"/>
              </a:xfrm>
              <a:custGeom>
                <a:avLst/>
                <a:gdLst/>
                <a:ahLst/>
                <a:rect l="l" t="t" r="r" b="b"/>
                <a:pathLst>
                  <a:path w="126" h="104">
                    <a:moveTo>
                      <a:pt x="95" y="0"/>
                    </a:moveTo>
                    <a:lnTo>
                      <a:pt x="34" y="0"/>
                    </a:lnTo>
                    <a:lnTo>
                      <a:pt x="34" y="30"/>
                    </a:lnTo>
                    <a:lnTo>
                      <a:pt x="0" y="68"/>
                    </a:lnTo>
                    <a:lnTo>
                      <a:pt x="0" y="101"/>
                    </a:lnTo>
                    <a:lnTo>
                      <a:pt x="5" y="104"/>
                    </a:lnTo>
                    <a:lnTo>
                      <a:pt x="124" y="104"/>
                    </a:lnTo>
                    <a:lnTo>
                      <a:pt x="126" y="98"/>
                    </a:lnTo>
                    <a:lnTo>
                      <a:pt x="126" y="68"/>
                    </a:lnTo>
                    <a:lnTo>
                      <a:pt x="95" y="3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910280" y="3621240"/>
                <a:ext cx="113400" cy="98280"/>
              </a:xfrm>
              <a:custGeom>
                <a:avLst/>
                <a:gdLst/>
                <a:ahLst/>
                <a:rect l="l" t="t" r="r" b="b"/>
                <a:pathLst>
                  <a:path w="126" h="104">
                    <a:moveTo>
                      <a:pt x="95" y="0"/>
                    </a:moveTo>
                    <a:lnTo>
                      <a:pt x="34" y="0"/>
                    </a:lnTo>
                    <a:lnTo>
                      <a:pt x="34" y="30"/>
                    </a:lnTo>
                    <a:lnTo>
                      <a:pt x="0" y="68"/>
                    </a:lnTo>
                    <a:lnTo>
                      <a:pt x="0" y="101"/>
                    </a:lnTo>
                    <a:lnTo>
                      <a:pt x="5" y="104"/>
                    </a:lnTo>
                    <a:lnTo>
                      <a:pt x="124" y="104"/>
                    </a:lnTo>
                    <a:lnTo>
                      <a:pt x="126" y="98"/>
                    </a:lnTo>
                    <a:lnTo>
                      <a:pt x="126" y="68"/>
                    </a:lnTo>
                    <a:lnTo>
                      <a:pt x="95" y="3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890480" y="3587400"/>
                <a:ext cx="153000" cy="69840"/>
              </a:xfrm>
              <a:custGeom>
                <a:avLst/>
                <a:gdLst/>
                <a:ahLst/>
                <a:rect l="l" t="t" r="r" b="b"/>
                <a:pathLst>
                  <a:path w="170" h="74">
                    <a:moveTo>
                      <a:pt x="102" y="0"/>
                    </a:moveTo>
                    <a:lnTo>
                      <a:pt x="93" y="0"/>
                    </a:lnTo>
                    <a:lnTo>
                      <a:pt x="73" y="0"/>
                    </a:lnTo>
                    <a:lnTo>
                      <a:pt x="59" y="3"/>
                    </a:lnTo>
                    <a:lnTo>
                      <a:pt x="42" y="6"/>
                    </a:lnTo>
                    <a:lnTo>
                      <a:pt x="27" y="11"/>
                    </a:lnTo>
                    <a:lnTo>
                      <a:pt x="17" y="19"/>
                    </a:lnTo>
                    <a:lnTo>
                      <a:pt x="8" y="28"/>
                    </a:lnTo>
                    <a:lnTo>
                      <a:pt x="0" y="44"/>
                    </a:lnTo>
                    <a:lnTo>
                      <a:pt x="0" y="66"/>
                    </a:lnTo>
                    <a:lnTo>
                      <a:pt x="5" y="74"/>
                    </a:lnTo>
                    <a:lnTo>
                      <a:pt x="30" y="74"/>
                    </a:lnTo>
                    <a:lnTo>
                      <a:pt x="37" y="66"/>
                    </a:lnTo>
                    <a:lnTo>
                      <a:pt x="37" y="47"/>
                    </a:lnTo>
                    <a:lnTo>
                      <a:pt x="32" y="47"/>
                    </a:lnTo>
                    <a:lnTo>
                      <a:pt x="34" y="36"/>
                    </a:lnTo>
                    <a:lnTo>
                      <a:pt x="54" y="25"/>
                    </a:lnTo>
                    <a:lnTo>
                      <a:pt x="66" y="22"/>
                    </a:lnTo>
                    <a:lnTo>
                      <a:pt x="73" y="22"/>
                    </a:lnTo>
                    <a:lnTo>
                      <a:pt x="85" y="22"/>
                    </a:lnTo>
                    <a:lnTo>
                      <a:pt x="95" y="22"/>
                    </a:lnTo>
                    <a:lnTo>
                      <a:pt x="107" y="25"/>
                    </a:lnTo>
                    <a:lnTo>
                      <a:pt x="122" y="28"/>
                    </a:lnTo>
                    <a:lnTo>
                      <a:pt x="131" y="33"/>
                    </a:lnTo>
                    <a:lnTo>
                      <a:pt x="139" y="47"/>
                    </a:lnTo>
                    <a:lnTo>
                      <a:pt x="134" y="47"/>
                    </a:lnTo>
                    <a:lnTo>
                      <a:pt x="134" y="66"/>
                    </a:lnTo>
                    <a:lnTo>
                      <a:pt x="141" y="74"/>
                    </a:lnTo>
                    <a:lnTo>
                      <a:pt x="165" y="74"/>
                    </a:lnTo>
                    <a:lnTo>
                      <a:pt x="170" y="66"/>
                    </a:lnTo>
                    <a:lnTo>
                      <a:pt x="170" y="44"/>
                    </a:lnTo>
                    <a:lnTo>
                      <a:pt x="165" y="33"/>
                    </a:lnTo>
                    <a:lnTo>
                      <a:pt x="153" y="19"/>
                    </a:lnTo>
                    <a:lnTo>
                      <a:pt x="141" y="11"/>
                    </a:lnTo>
                    <a:lnTo>
                      <a:pt x="129" y="6"/>
                    </a:lnTo>
                    <a:lnTo>
                      <a:pt x="112" y="3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90480" y="3587400"/>
                <a:ext cx="153000" cy="69840"/>
              </a:xfrm>
              <a:custGeom>
                <a:avLst/>
                <a:gdLst/>
                <a:ahLst/>
                <a:rect l="l" t="t" r="r" b="b"/>
                <a:pathLst>
                  <a:path w="170" h="74">
                    <a:moveTo>
                      <a:pt x="102" y="0"/>
                    </a:moveTo>
                    <a:lnTo>
                      <a:pt x="93" y="0"/>
                    </a:lnTo>
                    <a:lnTo>
                      <a:pt x="73" y="0"/>
                    </a:lnTo>
                    <a:lnTo>
                      <a:pt x="59" y="3"/>
                    </a:lnTo>
                    <a:lnTo>
                      <a:pt x="42" y="6"/>
                    </a:lnTo>
                    <a:lnTo>
                      <a:pt x="27" y="11"/>
                    </a:lnTo>
                    <a:lnTo>
                      <a:pt x="17" y="19"/>
                    </a:lnTo>
                    <a:lnTo>
                      <a:pt x="8" y="28"/>
                    </a:lnTo>
                    <a:lnTo>
                      <a:pt x="0" y="44"/>
                    </a:lnTo>
                    <a:lnTo>
                      <a:pt x="0" y="66"/>
                    </a:lnTo>
                    <a:lnTo>
                      <a:pt x="5" y="74"/>
                    </a:lnTo>
                    <a:lnTo>
                      <a:pt x="30" y="74"/>
                    </a:lnTo>
                    <a:lnTo>
                      <a:pt x="37" y="66"/>
                    </a:lnTo>
                    <a:lnTo>
                      <a:pt x="37" y="47"/>
                    </a:lnTo>
                    <a:lnTo>
                      <a:pt x="32" y="47"/>
                    </a:lnTo>
                    <a:lnTo>
                      <a:pt x="34" y="36"/>
                    </a:lnTo>
                    <a:lnTo>
                      <a:pt x="54" y="25"/>
                    </a:lnTo>
                    <a:lnTo>
                      <a:pt x="66" y="22"/>
                    </a:lnTo>
                    <a:lnTo>
                      <a:pt x="73" y="22"/>
                    </a:lnTo>
                    <a:lnTo>
                      <a:pt x="85" y="22"/>
                    </a:lnTo>
                    <a:lnTo>
                      <a:pt x="95" y="22"/>
                    </a:lnTo>
                    <a:lnTo>
                      <a:pt x="107" y="25"/>
                    </a:lnTo>
                    <a:lnTo>
                      <a:pt x="122" y="28"/>
                    </a:lnTo>
                    <a:lnTo>
                      <a:pt x="131" y="33"/>
                    </a:lnTo>
                    <a:lnTo>
                      <a:pt x="139" y="47"/>
                    </a:lnTo>
                    <a:lnTo>
                      <a:pt x="134" y="47"/>
                    </a:lnTo>
                    <a:lnTo>
                      <a:pt x="134" y="66"/>
                    </a:lnTo>
                    <a:lnTo>
                      <a:pt x="141" y="74"/>
                    </a:lnTo>
                    <a:lnTo>
                      <a:pt x="165" y="74"/>
                    </a:lnTo>
                    <a:lnTo>
                      <a:pt x="170" y="66"/>
                    </a:lnTo>
                    <a:lnTo>
                      <a:pt x="170" y="44"/>
                    </a:lnTo>
                    <a:lnTo>
                      <a:pt x="165" y="33"/>
                    </a:lnTo>
                    <a:lnTo>
                      <a:pt x="153" y="19"/>
                    </a:lnTo>
                    <a:lnTo>
                      <a:pt x="141" y="11"/>
                    </a:lnTo>
                    <a:lnTo>
                      <a:pt x="129" y="6"/>
                    </a:lnTo>
                    <a:lnTo>
                      <a:pt x="112" y="3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7830000" y="3526200"/>
              <a:ext cx="276480" cy="268200"/>
              <a:chOff x="7830000" y="3526200"/>
              <a:chExt cx="276480" cy="268200"/>
            </a:xfrm>
          </p:grpSpPr>
          <p:sp>
            <p:nvSpPr>
              <p:cNvPr id="437" name=""/>
              <p:cNvSpPr/>
              <p:nvPr/>
            </p:nvSpPr>
            <p:spPr>
              <a:xfrm>
                <a:off x="7932240" y="3526200"/>
                <a:ext cx="72000" cy="40680"/>
              </a:xfrm>
              <a:custGeom>
                <a:avLst/>
                <a:gdLst/>
                <a:ahLst/>
                <a:rect l="l" t="t" r="r" b="b"/>
                <a:pathLst>
                  <a:path w="80" h="43">
                    <a:moveTo>
                      <a:pt x="41" y="0"/>
                    </a:moveTo>
                    <a:lnTo>
                      <a:pt x="0" y="43"/>
                    </a:lnTo>
                    <a:lnTo>
                      <a:pt x="80" y="4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932240" y="3526200"/>
                <a:ext cx="72000" cy="40680"/>
              </a:xfrm>
              <a:custGeom>
                <a:avLst/>
                <a:gdLst/>
                <a:ahLst/>
                <a:rect l="l" t="t" r="r" b="b"/>
                <a:pathLst>
                  <a:path w="80" h="43">
                    <a:moveTo>
                      <a:pt x="41" y="0"/>
                    </a:moveTo>
                    <a:lnTo>
                      <a:pt x="0" y="43"/>
                    </a:lnTo>
                    <a:lnTo>
                      <a:pt x="80" y="4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932240" y="3750120"/>
                <a:ext cx="72000" cy="44280"/>
              </a:xfrm>
              <a:custGeom>
                <a:avLst/>
                <a:gdLst/>
                <a:ahLst/>
                <a:rect l="l" t="t" r="r" b="b"/>
                <a:pathLst>
                  <a:path w="80" h="47">
                    <a:moveTo>
                      <a:pt x="41" y="47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41" y="47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932240" y="3750120"/>
                <a:ext cx="72000" cy="44280"/>
              </a:xfrm>
              <a:custGeom>
                <a:avLst/>
                <a:gdLst/>
                <a:ahLst/>
                <a:rect l="l" t="t" r="r" b="b"/>
                <a:pathLst>
                  <a:path w="80" h="47">
                    <a:moveTo>
                      <a:pt x="41" y="47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41" y="47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830000" y="3623400"/>
                <a:ext cx="36360" cy="85680"/>
              </a:xfrm>
              <a:custGeom>
                <a:avLst/>
                <a:gdLst/>
                <a:ahLst/>
                <a:rect l="l" t="t" r="r" b="b"/>
                <a:pathLst>
                  <a:path w="41" h="91">
                    <a:moveTo>
                      <a:pt x="0" y="47"/>
                    </a:moveTo>
                    <a:lnTo>
                      <a:pt x="41" y="91"/>
                    </a:lnTo>
                    <a:lnTo>
                      <a:pt x="41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830000" y="3623400"/>
                <a:ext cx="36360" cy="85680"/>
              </a:xfrm>
              <a:custGeom>
                <a:avLst/>
                <a:gdLst/>
                <a:ahLst/>
                <a:rect l="l" t="t" r="r" b="b"/>
                <a:pathLst>
                  <a:path w="41" h="91">
                    <a:moveTo>
                      <a:pt x="0" y="47"/>
                    </a:moveTo>
                    <a:lnTo>
                      <a:pt x="41" y="91"/>
                    </a:lnTo>
                    <a:lnTo>
                      <a:pt x="41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069040" y="3623400"/>
                <a:ext cx="37440" cy="85680"/>
              </a:xfrm>
              <a:custGeom>
                <a:avLst/>
                <a:gdLst/>
                <a:ahLst/>
                <a:rect l="l" t="t" r="r" b="b"/>
                <a:pathLst>
                  <a:path w="42" h="91">
                    <a:moveTo>
                      <a:pt x="42" y="47"/>
                    </a:moveTo>
                    <a:lnTo>
                      <a:pt x="0" y="0"/>
                    </a:lnTo>
                    <a:lnTo>
                      <a:pt x="0" y="91"/>
                    </a:lnTo>
                    <a:lnTo>
                      <a:pt x="42" y="47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069040" y="3623400"/>
                <a:ext cx="37440" cy="85680"/>
              </a:xfrm>
              <a:custGeom>
                <a:avLst/>
                <a:gdLst/>
                <a:ahLst/>
                <a:rect l="l" t="t" r="r" b="b"/>
                <a:pathLst>
                  <a:path w="42" h="91">
                    <a:moveTo>
                      <a:pt x="42" y="47"/>
                    </a:moveTo>
                    <a:lnTo>
                      <a:pt x="0" y="0"/>
                    </a:lnTo>
                    <a:lnTo>
                      <a:pt x="0" y="91"/>
                    </a:lnTo>
                    <a:lnTo>
                      <a:pt x="42" y="47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912440" y="3623400"/>
                <a:ext cx="113400" cy="98280"/>
              </a:xfrm>
              <a:custGeom>
                <a:avLst/>
                <a:gdLst/>
                <a:ahLst/>
                <a:rect l="l" t="t" r="r" b="b"/>
                <a:pathLst>
                  <a:path w="126" h="104">
                    <a:moveTo>
                      <a:pt x="94" y="0"/>
                    </a:moveTo>
                    <a:lnTo>
                      <a:pt x="34" y="0"/>
                    </a:lnTo>
                    <a:lnTo>
                      <a:pt x="34" y="31"/>
                    </a:lnTo>
                    <a:lnTo>
                      <a:pt x="0" y="69"/>
                    </a:lnTo>
                    <a:lnTo>
                      <a:pt x="0" y="102"/>
                    </a:lnTo>
                    <a:lnTo>
                      <a:pt x="5" y="104"/>
                    </a:lnTo>
                    <a:lnTo>
                      <a:pt x="123" y="104"/>
                    </a:lnTo>
                    <a:lnTo>
                      <a:pt x="126" y="99"/>
                    </a:lnTo>
                    <a:lnTo>
                      <a:pt x="126" y="69"/>
                    </a:lnTo>
                    <a:lnTo>
                      <a:pt x="94" y="31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912440" y="3623400"/>
                <a:ext cx="113400" cy="98280"/>
              </a:xfrm>
              <a:custGeom>
                <a:avLst/>
                <a:gdLst/>
                <a:ahLst/>
                <a:rect l="l" t="t" r="r" b="b"/>
                <a:pathLst>
                  <a:path w="126" h="104">
                    <a:moveTo>
                      <a:pt x="94" y="0"/>
                    </a:moveTo>
                    <a:lnTo>
                      <a:pt x="34" y="0"/>
                    </a:lnTo>
                    <a:lnTo>
                      <a:pt x="34" y="31"/>
                    </a:lnTo>
                    <a:lnTo>
                      <a:pt x="0" y="69"/>
                    </a:lnTo>
                    <a:lnTo>
                      <a:pt x="0" y="102"/>
                    </a:lnTo>
                    <a:lnTo>
                      <a:pt x="5" y="104"/>
                    </a:lnTo>
                    <a:lnTo>
                      <a:pt x="123" y="104"/>
                    </a:lnTo>
                    <a:lnTo>
                      <a:pt x="126" y="99"/>
                    </a:lnTo>
                    <a:lnTo>
                      <a:pt x="126" y="69"/>
                    </a:lnTo>
                    <a:lnTo>
                      <a:pt x="94" y="31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892640" y="3590280"/>
                <a:ext cx="152640" cy="69840"/>
              </a:xfrm>
              <a:custGeom>
                <a:avLst/>
                <a:gdLst/>
                <a:ahLst/>
                <a:rect l="l" t="t" r="r" b="b"/>
                <a:pathLst>
                  <a:path w="170" h="74">
                    <a:moveTo>
                      <a:pt x="102" y="0"/>
                    </a:moveTo>
                    <a:lnTo>
                      <a:pt x="92" y="0"/>
                    </a:lnTo>
                    <a:lnTo>
                      <a:pt x="73" y="0"/>
                    </a:lnTo>
                    <a:lnTo>
                      <a:pt x="58" y="3"/>
                    </a:lnTo>
                    <a:lnTo>
                      <a:pt x="41" y="5"/>
                    </a:lnTo>
                    <a:lnTo>
                      <a:pt x="27" y="11"/>
                    </a:lnTo>
                    <a:lnTo>
                      <a:pt x="17" y="19"/>
                    </a:lnTo>
                    <a:lnTo>
                      <a:pt x="7" y="27"/>
                    </a:lnTo>
                    <a:lnTo>
                      <a:pt x="0" y="44"/>
                    </a:lnTo>
                    <a:lnTo>
                      <a:pt x="0" y="66"/>
                    </a:lnTo>
                    <a:lnTo>
                      <a:pt x="5" y="74"/>
                    </a:lnTo>
                    <a:lnTo>
                      <a:pt x="29" y="74"/>
                    </a:lnTo>
                    <a:lnTo>
                      <a:pt x="36" y="66"/>
                    </a:lnTo>
                    <a:lnTo>
                      <a:pt x="36" y="46"/>
                    </a:lnTo>
                    <a:lnTo>
                      <a:pt x="31" y="46"/>
                    </a:lnTo>
                    <a:lnTo>
                      <a:pt x="34" y="35"/>
                    </a:lnTo>
                    <a:lnTo>
                      <a:pt x="53" y="25"/>
                    </a:lnTo>
                    <a:lnTo>
                      <a:pt x="65" y="22"/>
                    </a:lnTo>
                    <a:lnTo>
                      <a:pt x="73" y="22"/>
                    </a:lnTo>
                    <a:lnTo>
                      <a:pt x="85" y="22"/>
                    </a:lnTo>
                    <a:lnTo>
                      <a:pt x="95" y="22"/>
                    </a:lnTo>
                    <a:lnTo>
                      <a:pt x="107" y="25"/>
                    </a:lnTo>
                    <a:lnTo>
                      <a:pt x="121" y="27"/>
                    </a:lnTo>
                    <a:lnTo>
                      <a:pt x="131" y="33"/>
                    </a:lnTo>
                    <a:lnTo>
                      <a:pt x="138" y="46"/>
                    </a:lnTo>
                    <a:lnTo>
                      <a:pt x="133" y="46"/>
                    </a:lnTo>
                    <a:lnTo>
                      <a:pt x="133" y="66"/>
                    </a:lnTo>
                    <a:lnTo>
                      <a:pt x="141" y="74"/>
                    </a:lnTo>
                    <a:lnTo>
                      <a:pt x="165" y="74"/>
                    </a:lnTo>
                    <a:lnTo>
                      <a:pt x="170" y="66"/>
                    </a:lnTo>
                    <a:lnTo>
                      <a:pt x="170" y="44"/>
                    </a:lnTo>
                    <a:lnTo>
                      <a:pt x="165" y="33"/>
                    </a:lnTo>
                    <a:lnTo>
                      <a:pt x="153" y="19"/>
                    </a:lnTo>
                    <a:lnTo>
                      <a:pt x="141" y="11"/>
                    </a:lnTo>
                    <a:lnTo>
                      <a:pt x="128" y="5"/>
                    </a:lnTo>
                    <a:lnTo>
                      <a:pt x="111" y="3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892640" y="3590280"/>
                <a:ext cx="152640" cy="69840"/>
              </a:xfrm>
              <a:custGeom>
                <a:avLst/>
                <a:gdLst/>
                <a:ahLst/>
                <a:rect l="l" t="t" r="r" b="b"/>
                <a:pathLst>
                  <a:path w="170" h="74">
                    <a:moveTo>
                      <a:pt x="102" y="0"/>
                    </a:moveTo>
                    <a:lnTo>
                      <a:pt x="92" y="0"/>
                    </a:lnTo>
                    <a:lnTo>
                      <a:pt x="73" y="0"/>
                    </a:lnTo>
                    <a:lnTo>
                      <a:pt x="58" y="3"/>
                    </a:lnTo>
                    <a:lnTo>
                      <a:pt x="41" y="5"/>
                    </a:lnTo>
                    <a:lnTo>
                      <a:pt x="27" y="11"/>
                    </a:lnTo>
                    <a:lnTo>
                      <a:pt x="17" y="19"/>
                    </a:lnTo>
                    <a:lnTo>
                      <a:pt x="7" y="27"/>
                    </a:lnTo>
                    <a:lnTo>
                      <a:pt x="0" y="44"/>
                    </a:lnTo>
                    <a:lnTo>
                      <a:pt x="0" y="66"/>
                    </a:lnTo>
                    <a:lnTo>
                      <a:pt x="5" y="74"/>
                    </a:lnTo>
                    <a:lnTo>
                      <a:pt x="29" y="74"/>
                    </a:lnTo>
                    <a:lnTo>
                      <a:pt x="36" y="66"/>
                    </a:lnTo>
                    <a:lnTo>
                      <a:pt x="36" y="46"/>
                    </a:lnTo>
                    <a:lnTo>
                      <a:pt x="31" y="46"/>
                    </a:lnTo>
                    <a:lnTo>
                      <a:pt x="34" y="35"/>
                    </a:lnTo>
                    <a:lnTo>
                      <a:pt x="53" y="25"/>
                    </a:lnTo>
                    <a:lnTo>
                      <a:pt x="65" y="22"/>
                    </a:lnTo>
                    <a:lnTo>
                      <a:pt x="73" y="22"/>
                    </a:lnTo>
                    <a:lnTo>
                      <a:pt x="85" y="22"/>
                    </a:lnTo>
                    <a:lnTo>
                      <a:pt x="95" y="22"/>
                    </a:lnTo>
                    <a:lnTo>
                      <a:pt x="107" y="25"/>
                    </a:lnTo>
                    <a:lnTo>
                      <a:pt x="121" y="27"/>
                    </a:lnTo>
                    <a:lnTo>
                      <a:pt x="131" y="33"/>
                    </a:lnTo>
                    <a:lnTo>
                      <a:pt x="138" y="46"/>
                    </a:lnTo>
                    <a:lnTo>
                      <a:pt x="133" y="46"/>
                    </a:lnTo>
                    <a:lnTo>
                      <a:pt x="133" y="66"/>
                    </a:lnTo>
                    <a:lnTo>
                      <a:pt x="141" y="74"/>
                    </a:lnTo>
                    <a:lnTo>
                      <a:pt x="165" y="74"/>
                    </a:lnTo>
                    <a:lnTo>
                      <a:pt x="170" y="66"/>
                    </a:lnTo>
                    <a:lnTo>
                      <a:pt x="170" y="44"/>
                    </a:lnTo>
                    <a:lnTo>
                      <a:pt x="165" y="33"/>
                    </a:lnTo>
                    <a:lnTo>
                      <a:pt x="153" y="19"/>
                    </a:lnTo>
                    <a:lnTo>
                      <a:pt x="141" y="11"/>
                    </a:lnTo>
                    <a:lnTo>
                      <a:pt x="128" y="5"/>
                    </a:lnTo>
                    <a:lnTo>
                      <a:pt x="111" y="3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pic>
        <p:nvPicPr>
          <p:cNvPr id="449" name="" descr=""/>
          <p:cNvPicPr/>
          <p:nvPr/>
        </p:nvPicPr>
        <p:blipFill>
          <a:blip r:embed="rId3"/>
          <a:srcRect l="30680" t="24288" r="29813" b="34742"/>
          <a:stretch/>
        </p:blipFill>
        <p:spPr>
          <a:xfrm>
            <a:off x="6276960" y="3675240"/>
            <a:ext cx="631800" cy="43956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5638680" y="32004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57913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>
            <a:off x="65530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617220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6717960" y="2714760"/>
            <a:ext cx="616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Zo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"/>
          <p:cNvSpPr/>
          <p:nvPr/>
        </p:nvSpPr>
        <p:spPr>
          <a:xfrm>
            <a:off x="7277040" y="4010040"/>
            <a:ext cx="1052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teway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5613840" y="4114800"/>
            <a:ext cx="10692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rminal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5471640" y="1066680"/>
            <a:ext cx="12672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tekeeper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/MCU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896160" y="4572000"/>
            <a:ext cx="761760" cy="685800"/>
            <a:chOff x="6896160" y="4572000"/>
            <a:chExt cx="761760" cy="685800"/>
          </a:xfrm>
        </p:grpSpPr>
        <p:sp>
          <p:nvSpPr>
            <p:cNvPr id="459" name=""/>
            <p:cNvSpPr/>
            <p:nvPr/>
          </p:nvSpPr>
          <p:spPr>
            <a:xfrm flipH="1">
              <a:off x="6896160" y="4572000"/>
              <a:ext cx="35064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46800" y="4572000"/>
              <a:ext cx="33516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29280" y="481320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48480" y="4794120"/>
              <a:ext cx="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929280" y="5257800"/>
              <a:ext cx="6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896160" y="487656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7848720" y="4572000"/>
            <a:ext cx="761760" cy="685800"/>
            <a:chOff x="7848720" y="4572000"/>
            <a:chExt cx="761760" cy="685800"/>
          </a:xfrm>
        </p:grpSpPr>
        <p:sp>
          <p:nvSpPr>
            <p:cNvPr id="466" name=""/>
            <p:cNvSpPr/>
            <p:nvPr/>
          </p:nvSpPr>
          <p:spPr>
            <a:xfrm flipH="1">
              <a:off x="7848720" y="4572000"/>
              <a:ext cx="35064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199360" y="4572000"/>
              <a:ext cx="33516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81840" y="4813200"/>
              <a:ext cx="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501040" y="4794120"/>
              <a:ext cx="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7881840" y="5257800"/>
              <a:ext cx="6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848720" y="487656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206280" y="98280"/>
            <a:ext cx="199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H.323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838080" y="1773360"/>
            <a:ext cx="7315200" cy="4041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979560" y="2838600"/>
            <a:ext cx="2152440" cy="1315440"/>
            <a:chOff x="979560" y="2838600"/>
            <a:chExt cx="2152440" cy="1315440"/>
          </a:xfrm>
        </p:grpSpPr>
        <p:sp>
          <p:nvSpPr>
            <p:cNvPr id="475" name=""/>
            <p:cNvSpPr/>
            <p:nvPr/>
          </p:nvSpPr>
          <p:spPr>
            <a:xfrm>
              <a:off x="979560" y="3800520"/>
              <a:ext cx="2152440" cy="3535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27240" y="3875040"/>
              <a:ext cx="1057320" cy="27900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T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79560" y="2838600"/>
              <a:ext cx="977760" cy="9619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031760" y="2838600"/>
              <a:ext cx="998640" cy="82404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.71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.729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.723.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57320" y="2838600"/>
              <a:ext cx="1174680" cy="9619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41640" y="2987640"/>
              <a:ext cx="721800" cy="58068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.26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.26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979560" y="2211480"/>
            <a:ext cx="215244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>
            <a:off x="4952880" y="2843280"/>
            <a:ext cx="1043280" cy="12999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>
            <a:off x="1109520" y="2249640"/>
            <a:ext cx="7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>
            <a:off x="2219400" y="2249640"/>
            <a:ext cx="8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3071880"/>
            <a:ext cx="914400" cy="763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.225.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>
            <a:off x="979560" y="5221440"/>
            <a:ext cx="7043760" cy="44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979560" y="4719600"/>
            <a:ext cx="7043760" cy="44136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>
            <a:off x="979560" y="4218120"/>
            <a:ext cx="3913200" cy="43956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>
            <a:off x="4957920" y="4218120"/>
            <a:ext cx="3065400" cy="43956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6132240" y="42908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2545920" y="42908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983040" y="48020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719880" y="530388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Layer 802.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1957320" y="2211480"/>
            <a:ext cx="1800" cy="56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3197160" y="2838600"/>
            <a:ext cx="652680" cy="131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>
            <a:off x="3152520" y="32688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TC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2211480"/>
            <a:ext cx="489924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>
            <a:off x="3914640" y="2838600"/>
            <a:ext cx="978120" cy="1319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>
            <a:off x="3964680" y="306864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.225.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6066000" y="2838600"/>
            <a:ext cx="1109520" cy="12999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6095880" y="3071880"/>
            <a:ext cx="982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.245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7240680" y="2838600"/>
            <a:ext cx="782640" cy="13158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>
            <a:off x="7308000" y="3068640"/>
            <a:ext cx="69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.1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>
            <a:off x="4048200" y="2441520"/>
            <a:ext cx="32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minal control and manageme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979560" y="2838600"/>
            <a:ext cx="977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886680" y="1852560"/>
            <a:ext cx="1474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7520" bIns="47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.323 Sta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1174680" y="4154400"/>
            <a:ext cx="1239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206280" y="98280"/>
            <a:ext cx="199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H.323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"/>
          <p:cNvSpPr/>
          <p:nvPr/>
        </p:nvSpPr>
        <p:spPr>
          <a:xfrm>
            <a:off x="826920" y="981000"/>
            <a:ext cx="276228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tocol Architec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1T01:16:28Z</dcterms:created>
  <dc:creator>Chulho Kim</dc:creator>
  <dc:description/>
  <dc:language>en-US</dc:language>
  <cp:lastModifiedBy>ldk1248</cp:lastModifiedBy>
  <dcterms:modified xsi:type="dcterms:W3CDTF">2006-11-22T02:23:59Z</dcterms:modified>
  <cp:revision>267</cp:revision>
  <dc:subject/>
  <dc:title>VoIP General</dc:title>
</cp:coreProperties>
</file>